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4A32D-6C50-48E1-BFAD-181581CEB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8F206-0B2F-451E-AB8A-E98ACDDDD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7C870-023B-4293-A8BD-5FA17274E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168CC-3516-4352-8B68-7264A2683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CE1DB-1897-4A64-BA51-0A4CA26C7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B2302-33ED-4DB6-825D-30298CDA6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B3F6B-2CB7-43FF-97E2-064335494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2A064-0D54-467B-A15B-B988F010A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3E3F7-8575-4E3F-88B9-3EDB7144C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135DD-6FE1-4B5A-8A91-15FD5ADF9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42F99-C465-4185-A5AC-9E023DB54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DD8C9-91C2-460B-AB3B-ACF9B6F12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99199-F56B-400C-A831-C9E11EBD19C4}" type="slidenum">
              <a:rPr b="0" lang="lv-LV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Arial"/>
              </a:rPr>
              <a:t>Ieskaite 2009, 6. modulis</a:t>
            </a:r>
            <a:br>
              <a:rPr sz="4400"/>
            </a:br>
            <a:r>
              <a:rPr b="1" lang="en-US" sz="4400" spc="-1" strike="noStrike">
                <a:solidFill>
                  <a:srgbClr val="990000"/>
                </a:solidFill>
                <a:latin typeface="Arial"/>
              </a:rPr>
              <a:t>Prezentāciju veidoš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43000" y="2209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Uzdevumu sagatavošanai izmantoti materiāl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lv-LV" sz="2400" spc="-1" strike="noStrike">
                <a:solidFill>
                  <a:srgbClr val="000000"/>
                </a:solidFill>
                <a:latin typeface="Arial"/>
              </a:rPr>
              <a:t>Power Point programmas izmantošana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R. Birziņa  LU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Arial"/>
              </a:rPr>
              <a:t>2. Microsoft Power Point 2003. </a:t>
            </a:r>
            <a:br>
              <a:rPr sz="2400"/>
            </a:br>
            <a:r>
              <a:rPr b="1" lang="lv-LV" sz="2400" spc="-1" strike="noStrike">
                <a:solidFill>
                  <a:srgbClr val="000000"/>
                </a:solidFill>
                <a:latin typeface="Arial"/>
              </a:rPr>
              <a:t>Prezentāciju veidošana -1. daļa 8. lekci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I. Dukulis Turība 200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152280"/>
            <a:ext cx="1828800" cy="12193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1828800" y="152280"/>
            <a:ext cx="2066760" cy="11430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5562720" y="152280"/>
            <a:ext cx="1876320" cy="11430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4114800" y="152280"/>
            <a:ext cx="1380960" cy="12956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7467480" y="76320"/>
            <a:ext cx="15480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Zīmējuma pievienoš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514600" y="1905120"/>
            <a:ext cx="1676520" cy="457200"/>
          </a:xfrm>
          <a:prstGeom prst="leftRightArrow">
            <a:avLst>
              <a:gd name="adj1" fmla="val 50000"/>
              <a:gd name="adj2" fmla="val 72999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638680" y="4800600"/>
            <a:ext cx="2210040" cy="5814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Tek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666880" y="3733920"/>
            <a:ext cx="1600200" cy="1447560"/>
          </a:xfrm>
          <a:custGeom>
            <a:avLst/>
            <a:gdLst>
              <a:gd name="textAreaLeft" fmla="*/ 659160 w 1600200"/>
              <a:gd name="textAreaRight" fmla="*/ 941040 w 1600200"/>
              <a:gd name="textAreaTop" fmla="*/ 596520 h 1447560"/>
              <a:gd name="textAreaBottom" fmla="*/ 85104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791320" y="2133720"/>
            <a:ext cx="1981080" cy="114300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4080" y="1523880"/>
            <a:ext cx="1981440" cy="2819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7400" y="1600200"/>
            <a:ext cx="2895480" cy="2514600"/>
          </a:xfrm>
          <a:prstGeom prst="lightningBolt">
            <a:avLst/>
          </a:prstGeom>
          <a:solidFill>
            <a:srgbClr val="990000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971800" y="1905120"/>
            <a:ext cx="2286000" cy="243828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895480" y="228240"/>
            <a:ext cx="3200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Efek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105520" y="1905120"/>
            <a:ext cx="3504960" cy="152640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7604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Virsrak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eksts, teksts, teksts, tek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eksts, teksts, teksts, tek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eksts, teksts, teksts, tek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600200" y="1905120"/>
            <a:ext cx="2514600" cy="15444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5867280" y="4267080"/>
            <a:ext cx="2266920" cy="200988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1447920" y="3962520"/>
            <a:ext cx="3276360" cy="24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152280" y="838080"/>
            <a:ext cx="8788680" cy="4819680"/>
            <a:chOff x="152280" y="838080"/>
            <a:chExt cx="8788680" cy="4819680"/>
          </a:xfrm>
        </p:grpSpPr>
        <p:pic>
          <p:nvPicPr>
            <p:cNvPr id="82" name="" descr=""/>
            <p:cNvPicPr/>
            <p:nvPr/>
          </p:nvPicPr>
          <p:blipFill>
            <a:blip r:embed="rId1"/>
            <a:stretch/>
          </p:blipFill>
          <p:spPr>
            <a:xfrm>
              <a:off x="5867280" y="838080"/>
              <a:ext cx="3073680" cy="4743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" descr=""/>
            <p:cNvPicPr/>
            <p:nvPr/>
          </p:nvPicPr>
          <p:blipFill>
            <a:blip r:embed="rId2"/>
            <a:stretch/>
          </p:blipFill>
          <p:spPr>
            <a:xfrm>
              <a:off x="152280" y="1143000"/>
              <a:ext cx="4365720" cy="451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"/>
            <p:cNvSpPr/>
            <p:nvPr/>
          </p:nvSpPr>
          <p:spPr>
            <a:xfrm rot="8202600">
              <a:off x="2171520" y="2476080"/>
              <a:ext cx="3504960" cy="1295640"/>
            </a:xfrm>
            <a:prstGeom prst="flowChartProcess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600" spc="-1" strike="noStrike">
                  <a:solidFill>
                    <a:srgbClr val="990000"/>
                  </a:solidFill>
                  <a:latin typeface="Arial"/>
                </a:rPr>
                <a:t>Apslēpts</a:t>
              </a:r>
              <a:endParaRPr b="0" lang="en-US" sz="9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229600" cy="14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Izklājums 1. variant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3733920" y="2743200"/>
            <a:ext cx="1743120" cy="143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229600" cy="14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Izklājums 2. variant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3809880" y="2743200"/>
            <a:ext cx="175284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229600" cy="14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Izklājums 3. variantam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3657600" y="2666880"/>
            <a:ext cx="1738440" cy="142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229600" cy="14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Izklājums 4. variant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3733920" y="2590920"/>
            <a:ext cx="1733400" cy="14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800000"/>
                </a:solidFill>
                <a:latin typeface="Times New Roman"/>
              </a:rPr>
              <a:t>Piemēro burtu lielumu salasāmība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Prezentācijas virsrakstiem lieto burtu izmērus vismaz ar 32 punktiem, tekstam slīdā – vismaz 24 punkti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Pārliecinies par teksta saskatāmību no zāles pēdējā rindā sēdošā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Pēc noklusējuma virsraksta burti ir 44 punkti, bet teksts slīdā - 32 punkti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Burtu izmērus iespējams samazināt, iegūstot vairāk vietas slīdā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066680" y="1447920"/>
            <a:ext cx="3111480" cy="37335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5410080" y="1447920"/>
            <a:ext cx="3111480" cy="37335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447920" y="76212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imes New Roman"/>
              </a:rPr>
              <a:t>Kreisā p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791320" y="68580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imes New Roman"/>
              </a:rPr>
              <a:t>Labā p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2362320" y="2666880"/>
            <a:ext cx="3962160" cy="2286000"/>
            <a:chOff x="2362320" y="2666880"/>
            <a:chExt cx="3962160" cy="2286000"/>
          </a:xfrm>
        </p:grpSpPr>
        <p:sp>
          <p:nvSpPr>
            <p:cNvPr id="51" name=""/>
            <p:cNvSpPr/>
            <p:nvPr/>
          </p:nvSpPr>
          <p:spPr>
            <a:xfrm>
              <a:off x="3886200" y="2743200"/>
              <a:ext cx="2438280" cy="1981080"/>
            </a:xfrm>
            <a:custGeom>
              <a:avLst/>
              <a:gdLst>
                <a:gd name="textAreaLeft" fmla="*/ 573120 w 2438280"/>
                <a:gd name="textAreaRight" fmla="*/ 1863720 w 2438280"/>
                <a:gd name="textAreaTop" fmla="*/ 232920 h 1981080"/>
                <a:gd name="textAreaBottom" fmla="*/ 1242720 h 198108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solidFill>
              <a:srgbClr val="99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362320" y="2666880"/>
              <a:ext cx="1523880" cy="2133720"/>
            </a:xfrm>
            <a:prstGeom prst="sun">
              <a:avLst>
                <a:gd name="adj" fmla="val 25000"/>
              </a:avLst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200400" y="3124080"/>
              <a:ext cx="1523880" cy="1828800"/>
            </a:xfrm>
            <a:prstGeom prst="smileyFace">
              <a:avLst>
                <a:gd name="adj" fmla="val 9282"/>
              </a:avLst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990033"/>
                </a:solidFill>
                <a:latin typeface="Arial"/>
              </a:rPr>
              <a:t>Prezentācijas struktū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371600" y="4978440"/>
            <a:ext cx="7183440" cy="914400"/>
          </a:xfrm>
          <a:prstGeom prst="triangle">
            <a:avLst>
              <a:gd name="adj" fmla="val 50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1600200" y="2818440"/>
            <a:ext cx="6748560" cy="2027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62120" y="990720"/>
            <a:ext cx="2514600" cy="167616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05520" y="914400"/>
            <a:ext cx="1066680" cy="1600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1851120" y="685800"/>
          <a:ext cx="4965480" cy="556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51120" y="685800"/>
                    <a:ext cx="4965480" cy="556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228600" y="914400"/>
          <a:ext cx="8731080" cy="582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914400"/>
                    <a:ext cx="8731080" cy="582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kola</cp:lastModifiedBy>
  <dcterms:modified xsi:type="dcterms:W3CDTF">2008-11-28T11:30:17Z</dcterms:modified>
  <cp:revision>4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