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74CC-6BD4-44D2-AC4A-0432E77A3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C5B3-7242-412D-AAE3-78559761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3505-A6D1-4ABE-B39A-6409FCB0A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0AEC-D55F-4068-A5B4-5A93DC441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14FE-4976-460D-AD12-8B48FE18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60C9-3C13-4448-9198-686FB4FF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D5CC-CFEF-488F-86B4-22D692D0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1312-8592-403F-9556-C5E4E1F7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AB88-EE40-4F50-8A9C-985AEBA8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2C99-B648-49DD-917D-0FD6596B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C4E4-6AC5-4FD0-ABE0-823F474C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63AD-989B-471F-B000-75EF936B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2033-C061-43ED-88F8-960A55C68465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Ieskaite 2009, 6. modulis</a:t>
            </a:r>
            <a:br>
              <a:rPr sz="4400"/>
            </a:b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Prezentāciju veid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Uzdevumu sagatavošanai izmantoti materiā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ower Point programmas izmantošan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R. Birziņa  LU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2. Microsoft Power Point 2003. 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rezentāciju veidošana -1. daļa 8. le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. Dukulis Turība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828800" y="152280"/>
            <a:ext cx="206676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187632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114800" y="152280"/>
            <a:ext cx="1380960" cy="129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467480" y="76320"/>
            <a:ext cx="1548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Zīmējuma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1905120"/>
            <a:ext cx="1676520" cy="457200"/>
          </a:xfrm>
          <a:prstGeom prst="leftRightArrow">
            <a:avLst>
              <a:gd name="adj1" fmla="val 50000"/>
              <a:gd name="adj2" fmla="val 72999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4800600"/>
            <a:ext cx="221004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ek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3733920"/>
            <a:ext cx="1600200" cy="1447560"/>
          </a:xfrm>
          <a:custGeom>
            <a:avLst/>
            <a:gdLst>
              <a:gd name="textAreaLeft" fmla="*/ 659160 w 1600200"/>
              <a:gd name="textAreaRight" fmla="*/ 941040 w 1600200"/>
              <a:gd name="textAreaTop" fmla="*/ 596520 h 1447560"/>
              <a:gd name="textAreaBottom" fmla="*/ 85104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2133720"/>
            <a:ext cx="1981080" cy="1143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4080" y="1523880"/>
            <a:ext cx="1981440" cy="281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1600200"/>
            <a:ext cx="2895480" cy="2514600"/>
          </a:xfrm>
          <a:prstGeom prst="lightningBolt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71800" y="1905120"/>
            <a:ext cx="2286000" cy="24382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5480" y="2282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fe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1905120"/>
            <a:ext cx="3504960" cy="15264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604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Virsra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2514600" cy="1544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867280" y="4267080"/>
            <a:ext cx="2266920" cy="2009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447920" y="396252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152280" y="838080"/>
            <a:ext cx="8788680" cy="4819680"/>
            <a:chOff x="152280" y="838080"/>
            <a:chExt cx="8788680" cy="481968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5867280" y="838080"/>
              <a:ext cx="3073680" cy="474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152280" y="1143000"/>
              <a:ext cx="436572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 rot="8202600">
              <a:off x="2171520" y="2476080"/>
              <a:ext cx="3504960" cy="1295640"/>
            </a:xfrm>
            <a:prstGeom prst="flowChart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990000"/>
                  </a:solidFill>
                  <a:latin typeface="Arial"/>
                </a:rPr>
                <a:t>Apslēpts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1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733920" y="2743200"/>
            <a:ext cx="174312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2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809880" y="2743200"/>
            <a:ext cx="175284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3. variantam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657600" y="2666880"/>
            <a:ext cx="173844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4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733920" y="2590920"/>
            <a:ext cx="173340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Piemēro burtu lielumu salasāmīb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rezentācijas virsrakstiem lieto burtu izmērus vismaz ar 32 punktiem, tekstam slīdā – vismaz 24 punk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ārliecinies par teksta saskatāmību no zāles pēdējā rindā sēdoš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ēc noklusējuma virsraksta burti ir 44 punkti, bet teksts slīdā - 32 punk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urtu izmērus iespējams samazināt, iegūstot vairāk vietas slīd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3111480" cy="3733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410080" y="1447920"/>
            <a:ext cx="3111480" cy="3733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47920" y="7621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Kreisā p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685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Labā p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362320" y="2666880"/>
            <a:ext cx="3962160" cy="2286000"/>
            <a:chOff x="2362320" y="2666880"/>
            <a:chExt cx="3962160" cy="2286000"/>
          </a:xfrm>
        </p:grpSpPr>
        <p:sp>
          <p:nvSpPr>
            <p:cNvPr id="51" name=""/>
            <p:cNvSpPr/>
            <p:nvPr/>
          </p:nvSpPr>
          <p:spPr>
            <a:xfrm>
              <a:off x="3886200" y="2743200"/>
              <a:ext cx="2438280" cy="1981080"/>
            </a:xfrm>
            <a:custGeom>
              <a:avLst/>
              <a:gdLst>
                <a:gd name="textAreaLeft" fmla="*/ 573120 w 2438280"/>
                <a:gd name="textAreaRight" fmla="*/ 1863720 w 2438280"/>
                <a:gd name="textAreaTop" fmla="*/ 232920 h 1981080"/>
                <a:gd name="textAreaBottom" fmla="*/ 1242720 h 19810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362320" y="2666880"/>
              <a:ext cx="1523880" cy="213372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00400" y="3124080"/>
              <a:ext cx="1523880" cy="1828800"/>
            </a:xfrm>
            <a:prstGeom prst="smileyFace">
              <a:avLst>
                <a:gd name="adj" fmla="val 9282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0033"/>
                </a:solidFill>
                <a:latin typeface="Arial"/>
              </a:rPr>
              <a:t>Prezentācijas struktū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4978440"/>
            <a:ext cx="7183440" cy="91440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600200" y="2818440"/>
            <a:ext cx="6748560" cy="2027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990720"/>
            <a:ext cx="2514600" cy="16761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914400"/>
            <a:ext cx="1066680" cy="1600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851120" y="685800"/>
          <a:ext cx="496548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1120" y="685800"/>
                    <a:ext cx="496548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28600" y="914400"/>
          <a:ext cx="8731080" cy="58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8731080" cy="58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kola</cp:lastModifiedBy>
  <dcterms:modified xsi:type="dcterms:W3CDTF">2008-11-28T11:30:17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