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60A99-17F4-4E50-8971-B4CD2BBAF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931C5-AF00-4DD6-9B2A-80F144C1F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49F58-9886-4DEB-B633-4E2BE6187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0FD92-5147-4B10-8B74-68A1EC4F2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34D0F-445F-47E5-B11F-845B9ECD8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05DC8-DF48-4649-A2EA-87B60A628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985F2-B636-40D0-BEED-E09DA8AC6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BE3CD-BA0B-47AE-A9B0-E05996ACF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8D6EA-7F3C-4297-A11C-D48D26A41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F92BC-7901-422B-8622-887D880E5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D34E0-E3AF-4A97-B9FA-DFD7DBB61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FF595-E919-4749-A8DA-18A15C89D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75A31-FBE7-467F-B214-892C9714940C}" type="slidenum">
              <a:rPr b="0" lang="lv-LV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5"/>
          <p:cNvSpPr/>
          <p:nvPr/>
        </p:nvSpPr>
        <p:spPr>
          <a:xfrm>
            <a:off x="2050920" y="476280"/>
            <a:ext cx="482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Pārlūkprogramma</a:t>
            </a:r>
            <a:endParaRPr b="0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42" name="Picture 6" descr=""/>
          <p:cNvPicPr/>
          <p:nvPr/>
        </p:nvPicPr>
        <p:blipFill>
          <a:blip r:embed="rId1"/>
          <a:stretch/>
        </p:blipFill>
        <p:spPr>
          <a:xfrm>
            <a:off x="1000080" y="1714680"/>
            <a:ext cx="7429680" cy="45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14"/>
          <p:cNvSpPr/>
          <p:nvPr/>
        </p:nvSpPr>
        <p:spPr>
          <a:xfrm>
            <a:off x="1619280" y="476280"/>
            <a:ext cx="61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Multivides lietotne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44" name="Picture 15" descr=""/>
          <p:cNvPicPr/>
          <p:nvPr/>
        </p:nvPicPr>
        <p:blipFill>
          <a:blip r:embed="rId1"/>
          <a:stretch/>
        </p:blipFill>
        <p:spPr>
          <a:xfrm>
            <a:off x="2143080" y="1500120"/>
            <a:ext cx="5357880" cy="46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6"/>
          <p:cNvSpPr/>
          <p:nvPr/>
        </p:nvSpPr>
        <p:spPr>
          <a:xfrm>
            <a:off x="900000" y="2743560"/>
            <a:ext cx="7442280" cy="703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Pārlūkprogramma paredzēta globālā tīmekļa dokumentu apskatīšanai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5"/>
          <p:cNvSpPr/>
          <p:nvPr/>
        </p:nvSpPr>
        <p:spPr>
          <a:xfrm>
            <a:off x="1187280" y="1916280"/>
            <a:ext cx="6642360" cy="703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Multivides lietotne paredzēta attēlu apskatīšanai, filmu rādīšanai, mūzikas atskaņošanai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6T19:38:33Z</dcterms:created>
  <dc:creator>gennady</dc:creator>
  <dc:description/>
  <dc:language>en-US</dc:language>
  <cp:lastModifiedBy>person</cp:lastModifiedBy>
  <dcterms:modified xsi:type="dcterms:W3CDTF">2009-11-28T12:13:46Z</dcterms:modified>
  <cp:revision>35</cp:revision>
  <dc:subject/>
  <dc:title>Slide 1</dc:title>
</cp:coreProperties>
</file>