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07F4-3840-4A34-B17F-8D3ECC5FF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0234-EA2E-462E-A9CA-2042BBC4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545C-661F-447D-B6F8-628FA819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4B07-079F-4369-AEFD-F16B5176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5B0F-3C54-426D-8E52-133086CD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ECDF-18C9-4281-B634-A6847859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40F3-5D2E-4142-9785-15F698FA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F51F-EA22-4B0C-B8D9-3DEB7AE7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6781-48D9-450D-93D5-71289FC8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91DD-6AD6-4358-8664-9B7D3A93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AFF3-DBF2-4C51-88CF-A387614C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1D4B-57D7-418A-8A4D-5D000CCC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8690-D0C0-4D8F-B927-CD6CF96DA375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050920" y="4762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ārlūkprogramma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4"/>
          <p:cNvSpPr/>
          <p:nvPr/>
        </p:nvSpPr>
        <p:spPr>
          <a:xfrm>
            <a:off x="1619280" y="476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ultivides lietotne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4" name="Picture 15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53578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900000" y="2743560"/>
            <a:ext cx="74422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ārlūkprogramma paredzēta globālā tīmekļa dokumentu apskatī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187280" y="1916280"/>
            <a:ext cx="664236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ultivides lietotne paredzēta attēlu apskatīšanai, filmu rādīšanai, mūzikas atskaņo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9:38:33Z</dcterms:created>
  <dc:creator>gennady</dc:creator>
  <dc:description/>
  <dc:language>en-US</dc:language>
  <cp:lastModifiedBy>person</cp:lastModifiedBy>
  <dcterms:modified xsi:type="dcterms:W3CDTF">2009-11-28T12:13:46Z</dcterms:modified>
  <cp:revision>35</cp:revision>
  <dc:subject/>
  <dc:title>Slide 1</dc:title>
</cp:coreProperties>
</file>