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180A-C26D-41EC-91AD-50066F89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F75-A734-4E3B-B9A8-6D123155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008-4312-43A0-A603-72AA7034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62D-88DE-41B8-ADE8-69D5D214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3E77-C997-4C66-8990-30BBE04A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12B5-4A7F-4FA6-B6DC-712B655F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78C-E581-42F4-AB80-9B2DF0B4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4648-E2CB-4ADB-B60C-02FFA376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D17-2253-4EC8-A641-88FEF2D58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782-EB1B-4539-B95D-75DF3325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3377-D36C-49DB-80C4-5CC89C2F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C6B-4250-4A4F-9A0B-ABC09CC0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6B54-F094-476F-8548-1E033D4918B1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50920" y="476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ārlūkprogramma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1619280" y="47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ultivides lietot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5357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000" y="2743560"/>
            <a:ext cx="7442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lūkprogramma paredzēta globālā tīmekļa dokumentu apskatī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1916280"/>
            <a:ext cx="6642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ultivides lietotne paredzēta attēlu apskatīšanai, filmu rādīšanai, mūzikas atskaņo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8:33Z</dcterms:created>
  <dc:creator>gennady</dc:creator>
  <dc:description/>
  <dc:language>en-US</dc:language>
  <cp:lastModifiedBy>person</cp:lastModifiedBy>
  <dcterms:modified xsi:type="dcterms:W3CDTF">2009-11-28T12:13:46Z</dcterms:modified>
  <cp:revision>35</cp:revision>
  <dc:subject/>
  <dc:title>Slide 1</dc:title>
</cp:coreProperties>
</file>