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328-0E29-4AA0-8A24-FAA30C8C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098-CF50-4AC8-B4DC-22BF4B13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57B-855B-4717-85FC-33E28309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E635-C9D5-4A56-A0AE-5FC8C8CE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66A-FED1-4A87-BB92-FBFCA4CF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FD4-AE9E-45F4-91FF-D123AC7F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3D1-16C5-47E6-8A88-EF461077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FFC-DCFD-4387-AB62-842A15D8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FAB-D22A-4BD5-A7C0-C2C2FEA9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889-9D76-4A0A-BFD6-BCE2679E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088D-60DA-46D1-B602-895E0CFB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76A3-57F5-463E-AAD1-AE2F89BC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09F9-7CF9-4F14-8885-1952807A2F8E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50920" y="476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ārlūkprogramma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1619280" y="47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ultivides lietot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5357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000" y="2743560"/>
            <a:ext cx="7442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lūkprogramma paredzēta globālā tīmekļa dokumentu apskatī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1916280"/>
            <a:ext cx="6642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ultivides lietotne paredzēta attēlu apskatīšanai, filmu rādīšanai, mūzikas atskaņo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8:33Z</dcterms:created>
  <dc:creator>gennady</dc:creator>
  <dc:description/>
  <dc:language>en-US</dc:language>
  <cp:lastModifiedBy>person</cp:lastModifiedBy>
  <dcterms:modified xsi:type="dcterms:W3CDTF">2009-11-28T12:13:46Z</dcterms:modified>
  <cp:revision>35</cp:revision>
  <dc:subject/>
  <dc:title>Slide 1</dc:title>
</cp:coreProperties>
</file>