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8605-D204-40F8-951F-52E997BE261F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apīram paredzētajā konteinerā drīkst mest biroja papīru, avīzes, grāmatas, kartona kastes un kār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B3AE-15E4-43AE-BB02-2CD810885F1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B2DB-7844-4A81-A621-0B0ACAC11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68CC-6CB7-4FE7-A0FE-02A6CEB6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5E52-6926-4C5C-9A53-B3DA27C70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920E-0E60-4188-8848-268F2C1D5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215A-2C6D-4D8C-AC39-18B6CBA5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D3E4-E7E4-4A19-B704-B2AD7239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CAA1-D8E2-4307-80B4-41D81A04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257C-9BBA-4B9C-9865-EF12C993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C719-9FAA-45F8-9B2E-E335F68D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E951-4598-4E83-AB95-81AA7EB5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9E84-8D66-482A-8926-33352A0E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0663-10C8-4BFC-B2BA-0D4464C7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3516-2F00-4E88-AF39-728065F4F177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res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ērcēšana un 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ulpas apstrā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apīra gatav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apīra izstrādāju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s konteinerā drīkst mest tikai tīru un sausu papīra un kartona iepakoju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rtona iepakojuma kastes pirms izmešanas jāsaplac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kavu, spirāļu un līplentu atdalīšana pirms izmešanas šķirošanas konteinerā nav obligāta – tās netraucē pārstrādes procesam, jo nederīgie piemaisījumi tiek atdalīti un izfiltrē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kont_1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140360" y="2060640"/>
            <a:ext cx="331128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šķirošanas līnijas viss konteinera saturs tiek sašķirots pa dažādiem papīra veid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gstāka vērtība ir tīrām otrreizējām izejvielām bez citu materiālu piemaisījumiem, tādēļ šķirošanas līnijās papīrs tiek sašķirots pa veidiem, atdalot, piemēram, biroja papīru un gofrēto karto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res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teriālus sapresē ķīpās un nogādā uz pārstrādes uzņēmum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tvijā vienīgā papīra pārstrādes rūpnīca ir papīrfabrika «Līgatne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kulatūra pārstrādei tiek vesta arī uz Lietuvu un citām valstī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https://encrypted-tbn1.gstatic.com/images?q=tbn:ANd9GcRwokDXEmj8za7er067E3fKt5w9YfRMrD8Z_9xROTwuL2hQuZyu"/>
          <p:cNvPicPr/>
          <p:nvPr/>
        </p:nvPicPr>
        <p:blipFill>
          <a:blip r:embed="rId1"/>
          <a:stretch/>
        </p:blipFill>
        <p:spPr>
          <a:xfrm>
            <a:off x="4716360" y="3284640"/>
            <a:ext cx="36720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Mērcēšana un 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77868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ilzīgā blenderī jeb hidrošķaidītājā sašķiroto papīru mērcē un sasmalcina putrveida mas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Paper-pulp-soak.jpg"/>
          <p:cNvPicPr/>
          <p:nvPr/>
        </p:nvPicPr>
        <p:blipFill>
          <a:blip r:embed="rId1"/>
          <a:stretch/>
        </p:blipFill>
        <p:spPr>
          <a:xfrm>
            <a:off x="2195640" y="2852640"/>
            <a:ext cx="496872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ulpas ap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pulpas masas vispirms atdala krāsvie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c tam šķiedras balina, tīra, sijā un filtrē, līdz tās derīgas papīra ražošan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Att&amp;emacr;lu rezult&amp;amacr;ti vaic&amp;amacr;jumam “l&amp;imacr;gatnes pap&amp;imacr;rfabrika”"/>
          <p:cNvPicPr/>
          <p:nvPr/>
        </p:nvPicPr>
        <p:blipFill>
          <a:blip r:embed="rId1"/>
          <a:stretch/>
        </p:blipFill>
        <p:spPr>
          <a:xfrm>
            <a:off x="3110040" y="3959280"/>
            <a:ext cx="283824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gatav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apīra masu plānā kārtiņā klāj uz lentes, žāvē un pres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Celulozes šķiedras ir iespējams pārstrādāt līdz pat septiņām reizē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Att&amp;emacr;lu rezult&amp;amacr;ti vaic&amp;amacr;jumam “l&amp;imacr;gatnes pap&amp;imacr;rfabrika”"/>
          <p:cNvPicPr/>
          <p:nvPr/>
        </p:nvPicPr>
        <p:blipFill>
          <a:blip r:embed="rId1"/>
          <a:stretch/>
        </p:blipFill>
        <p:spPr>
          <a:xfrm>
            <a:off x="4356000" y="1916280"/>
            <a:ext cx="41864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izstrādāju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pārstrādāta papīra top gofrētā kartona kastes, ietinamais papīrs, biroja papīrs, akvareļu papīrs un citi izstrādāju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15"/>
          <p:cNvSpPr/>
          <p:nvPr/>
        </p:nvSpPr>
        <p:spPr>
          <a:xfrm rot="20785800">
            <a:off x="2122560" y="3771720"/>
            <a:ext cx="2484360" cy="1511280"/>
          </a:xfrm>
          <a:prstGeom prst="parallelogram">
            <a:avLst>
              <a:gd name="adj" fmla="val 25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arallelogram 17"/>
          <p:cNvSpPr/>
          <p:nvPr/>
        </p:nvSpPr>
        <p:spPr>
          <a:xfrm rot="5400000">
            <a:off x="3967920" y="3937680"/>
            <a:ext cx="1835280" cy="973440"/>
          </a:xfrm>
          <a:prstGeom prst="parallelogram">
            <a:avLst>
              <a:gd name="adj" fmla="val 2495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reeform 6"/>
          <p:cNvSpPr/>
          <p:nvPr/>
        </p:nvSpPr>
        <p:spPr>
          <a:xfrm>
            <a:off x="2352600" y="5051520"/>
            <a:ext cx="3029040" cy="809640"/>
          </a:xfrm>
          <a:custGeom>
            <a:avLst/>
            <a:gdLst/>
            <a:ahLst/>
            <a:rect l="l" t="t" r="r" b="b"/>
            <a:pathLst>
              <a:path w="3028013" h="809469">
                <a:moveTo>
                  <a:pt x="0" y="524656"/>
                </a:moveTo>
                <a:lnTo>
                  <a:pt x="2068642" y="0"/>
                </a:lnTo>
                <a:lnTo>
                  <a:pt x="3028013" y="284813"/>
                </a:lnTo>
                <a:lnTo>
                  <a:pt x="944380" y="809469"/>
                </a:lnTo>
                <a:lnTo>
                  <a:pt x="0" y="524656"/>
                </a:lnTo>
                <a:close/>
              </a:path>
            </a:pathLst>
          </a:custGeom>
          <a:solidFill>
            <a:srgbClr val="17375e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arallelogram 18"/>
          <p:cNvSpPr/>
          <p:nvPr/>
        </p:nvSpPr>
        <p:spPr>
          <a:xfrm rot="20785800">
            <a:off x="3120840" y="4044600"/>
            <a:ext cx="2484360" cy="1512720"/>
          </a:xfrm>
          <a:prstGeom prst="parallelogram">
            <a:avLst>
              <a:gd name="adj" fmla="val 24992"/>
            </a:avLst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18:42Z</dcterms:modified>
  <cp:revision>28</cp:revision>
  <dc:subject/>
  <dc:title>Papīra pārstrāde</dc:title>
</cp:coreProperties>
</file>