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2234-8CDF-4048-B89C-4BCABA3B448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apīram paredzētajā konteinerā drīkst mest biroja papīru, avīzes, grāmatas, kartona kastes un kār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2E44-B3E2-452F-971F-80777C706A1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DEAC-A378-40AB-90BA-17E59C54A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D800-58DF-40AD-A264-C888480C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080F-AEF0-4561-9FF7-BB1C875F9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DA0D-35C6-44EE-9429-0811DCB20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5204-B1BC-4AD3-8201-EDE311E5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9E02-09C3-4330-BD1A-8EB318EF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15DE-9717-4A19-8468-227BFE0A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4041-EA0C-4C11-98AA-C884DE03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B11E-6884-429D-8450-6818EA93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4EA2-0C8D-429C-A6A6-92D84450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0B87-CDAF-4FDF-A62D-D1487D66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C744-D7CD-4C05-B404-6C710FE8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4EE7-CB21-4D8D-94E1-B9380A24DD43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res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ērcēšana un 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ulpas apstrā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pīra gatav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pīra izstrādāju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s konteinerā drīkst mest tikai tīru un sausu papīra un kartona iepakoju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rtona iepakojuma kastes pirms izmešanas jāsaplac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kavu, spirāļu un līplentu atdalīšana pirms izmešanas šķirošanas konteinerā nav obligāta – tās netraucē pārstrādes procesam, jo nederīgie piemaisījumi tiek atdalīti un izfiltrē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kont_1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140360" y="2060640"/>
            <a:ext cx="331128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šķirošanas līnijas viss konteinera saturs tiek sašķirots pa dažādiem papīra veid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gstāka vērtība ir tīrām otrreizējām izejvielām bez citu materiālu piemaisījumiem, tādēļ šķirošanas līnijās papīrs tiek sašķirots pa veidiem, atdalot, piemēram, biroja papīru un gofrēto karto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res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teriālus sapresē ķīpās un nogādā uz pārstrādes uzņēmum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vijā vienīgā papīra pārstrādes rūpnīca ir papīrfabrika «Līgatne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kulatūra pārstrādei tiek vesta arī uz Lietuvu un citām valstī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https://encrypted-tbn1.gstatic.com/images?q=tbn:ANd9GcRwokDXEmj8za7er067E3fKt5w9YfRMrD8Z_9xROTwuL2hQuZyu"/>
          <p:cNvPicPr/>
          <p:nvPr/>
        </p:nvPicPr>
        <p:blipFill>
          <a:blip r:embed="rId1"/>
          <a:stretch/>
        </p:blipFill>
        <p:spPr>
          <a:xfrm>
            <a:off x="4716360" y="3284640"/>
            <a:ext cx="3672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Mērcēšana un 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77868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ilzīgā blenderī jeb hidrošķaidītājā sašķiroto papīru mērcē un sasmalcina putrveida mas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Paper-pulp-soak.jpg"/>
          <p:cNvPicPr/>
          <p:nvPr/>
        </p:nvPicPr>
        <p:blipFill>
          <a:blip r:embed="rId1"/>
          <a:stretch/>
        </p:blipFill>
        <p:spPr>
          <a:xfrm>
            <a:off x="2195640" y="2852640"/>
            <a:ext cx="496872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ulpas ap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pulpas masas vispirms atdala krāsvie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tam šķiedras balina, tīra, sijā un filtrē, līdz tās derīgas papīra ražošan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Att&amp;emacr;lu rezult&amp;amacr;ti vaic&amp;amacr;jumam “l&amp;imacr;gatnes pap&amp;imacr;rfabrika”"/>
          <p:cNvPicPr/>
          <p:nvPr/>
        </p:nvPicPr>
        <p:blipFill>
          <a:blip r:embed="rId1"/>
          <a:stretch/>
        </p:blipFill>
        <p:spPr>
          <a:xfrm>
            <a:off x="3110040" y="3959280"/>
            <a:ext cx="283824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gatav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apīra masu plānā kārtiņā klāj uz lentes, žāvē un pres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Celulozes šķiedras ir iespējams pārstrādāt līdz pat septiņām reizē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Att&amp;emacr;lu rezult&amp;amacr;ti vaic&amp;amacr;jumam “l&amp;imacr;gatnes pap&amp;imacr;rfabrika”"/>
          <p:cNvPicPr/>
          <p:nvPr/>
        </p:nvPicPr>
        <p:blipFill>
          <a:blip r:embed="rId1"/>
          <a:stretch/>
        </p:blipFill>
        <p:spPr>
          <a:xfrm>
            <a:off x="4356000" y="1916280"/>
            <a:ext cx="41864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izstrādāju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pārstrādāta papīra top gofrētā kartona kastes, ietinamais papīrs, biroja papīrs, akvareļu papīrs un citi izstrādāju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15"/>
          <p:cNvSpPr/>
          <p:nvPr/>
        </p:nvSpPr>
        <p:spPr>
          <a:xfrm rot="20785800">
            <a:off x="2122560" y="3771720"/>
            <a:ext cx="2484360" cy="1511280"/>
          </a:xfrm>
          <a:prstGeom prst="parallelogram">
            <a:avLst>
              <a:gd name="adj" fmla="val 25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arallelogram 17"/>
          <p:cNvSpPr/>
          <p:nvPr/>
        </p:nvSpPr>
        <p:spPr>
          <a:xfrm rot="5400000">
            <a:off x="3967920" y="3937680"/>
            <a:ext cx="1835280" cy="973440"/>
          </a:xfrm>
          <a:prstGeom prst="parallelogram">
            <a:avLst>
              <a:gd name="adj" fmla="val 2495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reeform 6"/>
          <p:cNvSpPr/>
          <p:nvPr/>
        </p:nvSpPr>
        <p:spPr>
          <a:xfrm>
            <a:off x="2352600" y="5051520"/>
            <a:ext cx="3029040" cy="809640"/>
          </a:xfrm>
          <a:custGeom>
            <a:avLst/>
            <a:gdLst/>
            <a:ahLst/>
            <a:rect l="l" t="t" r="r" b="b"/>
            <a:pathLst>
              <a:path w="3028013" h="809469">
                <a:moveTo>
                  <a:pt x="0" y="524656"/>
                </a:moveTo>
                <a:lnTo>
                  <a:pt x="2068642" y="0"/>
                </a:lnTo>
                <a:lnTo>
                  <a:pt x="3028013" y="284813"/>
                </a:lnTo>
                <a:lnTo>
                  <a:pt x="944380" y="809469"/>
                </a:lnTo>
                <a:lnTo>
                  <a:pt x="0" y="524656"/>
                </a:lnTo>
                <a:close/>
              </a:path>
            </a:pathLst>
          </a:custGeom>
          <a:solidFill>
            <a:srgbClr val="17375e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arallelogram 18"/>
          <p:cNvSpPr/>
          <p:nvPr/>
        </p:nvSpPr>
        <p:spPr>
          <a:xfrm rot="20785800">
            <a:off x="3120840" y="4044600"/>
            <a:ext cx="2484360" cy="1512720"/>
          </a:xfrm>
          <a:prstGeom prst="parallelogram">
            <a:avLst>
              <a:gd name="adj" fmla="val 24992"/>
            </a:avLst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18:42Z</dcterms:modified>
  <cp:revision>28</cp:revision>
  <dc:subject/>
  <dc:title>Papīra pārstrāde</dc:title>
</cp:coreProperties>
</file>