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FE6F-766C-4177-8E66-472EC9CDD0E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CECE-8993-43FA-BC25-C7DB2EFAD53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E331-0EFE-48CD-BF62-52983415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C043-2DE6-4273-B27C-5783FB1D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DAF-F657-4E7C-BDB8-8E184345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88EF-1370-4C93-9482-052527E5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014-FA54-4238-A0AB-7176376C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F59-DB53-40C0-8089-525E538B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7BE6-AB6F-4358-A7DE-763FA7F5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A264-DBA2-4BDF-A7F6-F49748C0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24D-0A49-44BF-8FB7-0E01160D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6D8-E27F-4442-B4E2-F46A2DFC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FF4B-CB94-4BB0-9F15-91078138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2377-572A-4CE0-8D62-6050B5D4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4524-1BAA-4F54-9EFD-1C7EB14F12C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tikl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bfbfb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aļajā konteinerā drīkst mest tikai stikla iepakojumu – pudeles un burk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iepakojumu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kont_3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92720" y="2095560"/>
            <a:ext cx="35971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Pāršķirošana un svešķermeņu atdalī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mūsdienīgas šķirošanas līnijas, stiklu ir iespējams sašķirot pa krās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līnijās automatizētā procesā tiek atdalīti dažādi piemaisījumi, piemēram, metāls, keramika, akmeņi u.tm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acedisposal.com/wp-content/uploads/2014/06/glass-2-300x225.jpg"/>
          <p:cNvPicPr/>
          <p:nvPr/>
        </p:nvPicPr>
        <p:blipFill>
          <a:blip r:embed="rId1"/>
          <a:stretch/>
        </p:blipFill>
        <p:spPr>
          <a:xfrm>
            <a:off x="2778120" y="4383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69520" y="1599840"/>
            <a:ext cx="7674120" cy="46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īrais stikla iepakojums tiek sasmalcinā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atvijā sašķirotais stikla iepakojums nonāk pārstrādes rūpnīcās Lietuvā un Ukrain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return-it.ca/images/Green-Bottle-Cullet.jpg"/>
          <p:cNvPicPr/>
          <p:nvPr/>
        </p:nvPicPr>
        <p:blipFill>
          <a:blip r:embed="rId1"/>
          <a:stretch/>
        </p:blipFill>
        <p:spPr>
          <a:xfrm>
            <a:off x="4842000" y="2014560"/>
            <a:ext cx="37573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au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79516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smalcinātais stikls tiek izkausēts milzīgā krāsnī un sajaukts ar pirmreizējām stikla izejviel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ikla ražošanai izmanto kvarca smiltis, sodu un kaļķakmeni, bet 30–40% no kopējās izejvielu masas aizvietojot ar otrreizēji pārstrādātu materiā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agc-glass.eu/01/MyImages/2260new.jpg"/>
          <p:cNvPicPr/>
          <p:nvPr/>
        </p:nvPicPr>
        <p:blipFill>
          <a:blip r:embed="rId1"/>
          <a:stretch/>
        </p:blipFill>
        <p:spPr>
          <a:xfrm>
            <a:off x="2389320" y="4067280"/>
            <a:ext cx="420660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Jauna iepakojuma iz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viendabīgās stikla masas ražo jaunu stikla iepakojum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</a:rPr>
              <a:t>No pārstrādāta materiāla gatavotai pudelei ir tāda pati kvalitāte kā tai, kas ražota no smiltī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8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14"/>
          <p:cNvSpPr/>
          <p:nvPr/>
        </p:nvSpPr>
        <p:spPr>
          <a:xfrm>
            <a:off x="155520" y="-868320"/>
            <a:ext cx="1238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1" descr="m3.png"/>
          <p:cNvPicPr/>
          <p:nvPr/>
        </p:nvPicPr>
        <p:blipFill>
          <a:blip r:embed="rId1"/>
          <a:stretch/>
        </p:blipFill>
        <p:spPr>
          <a:xfrm>
            <a:off x="3762360" y="3768840"/>
            <a:ext cx="1498680" cy="2433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m4.png"/>
          <p:cNvPicPr/>
          <p:nvPr/>
        </p:nvPicPr>
        <p:blipFill>
          <a:blip r:embed="rId2"/>
          <a:stretch/>
        </p:blipFill>
        <p:spPr>
          <a:xfrm>
            <a:off x="1623960" y="4145040"/>
            <a:ext cx="1309680" cy="1981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5" descr="m5.png"/>
          <p:cNvPicPr/>
          <p:nvPr/>
        </p:nvPicPr>
        <p:blipFill>
          <a:blip r:embed="rId3"/>
          <a:stretch/>
        </p:blipFill>
        <p:spPr>
          <a:xfrm>
            <a:off x="6211800" y="4152960"/>
            <a:ext cx="1352520" cy="2039760"/>
          </a:xfrm>
          <a:prstGeom prst="rect">
            <a:avLst/>
          </a:prstGeom>
          <a:ln w="0">
            <a:noFill/>
          </a:ln>
        </p:spPr>
      </p:pic>
      <p:sp>
        <p:nvSpPr>
          <p:cNvPr id="81" name="Oval 26"/>
          <p:cNvSpPr/>
          <p:nvPr/>
        </p:nvSpPr>
        <p:spPr>
          <a:xfrm>
            <a:off x="1793880" y="4227480"/>
            <a:ext cx="974880" cy="2840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val 27"/>
          <p:cNvSpPr/>
          <p:nvPr/>
        </p:nvSpPr>
        <p:spPr>
          <a:xfrm>
            <a:off x="6408720" y="4245120"/>
            <a:ext cx="974880" cy="25848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deļu izgatavošan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ā sauktajā pudeļmašīnā 1200°C temperatūrā īpašās formās top stikla pude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d pudeles gatavas, tās lēnām atdziest jeb norūdā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rūdīšanas pudeles aizceļo uz šķirošanu, kur tās automātiski pārbau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āķētās pudeles atgriežas kausēšanas krāsnī, veselās tiek iepakotas vakuumā un nosūtītas pudeļu pildītāj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3:22Z</dcterms:modified>
  <cp:revision>38</cp:revision>
  <dc:subject/>
  <dc:title>Papīra pārstrāde</dc:title>
</cp:coreProperties>
</file>