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10EA-CC06-4054-BBF5-3B54B534D82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irms izmešanas plastmasas nepieciešams saplacinā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C7D3-567D-41E6-B18B-E2DE4315677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4EC-1FE8-4265-AEAE-06EFCB0D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8045-99C2-4DA7-B7FA-260DAD62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E90-453E-4FEE-9F1C-331B366C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151D-D259-46E2-8862-F4C2624C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AD7-B57B-41C2-BE84-FEB78AAC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B70-98D5-4794-B574-DF3FF139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376-03B7-4B21-BD78-3BEC6C15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6AC3-666D-47DC-8D88-DC758447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8DC3-9E0A-4C84-83D0-3DD0356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A8A-70EF-4B5A-8931-BE1AC22D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794-8264-4D6E-B392-D46B3FCD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5CD-8960-4FF2-BCF2-1BEBAAF5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A9D5-7AC0-43C2-A614-EFAD5D165CB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stmasas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nteinerā drīkst mest tikai tīru iepakojumu. To nav nepieciešams mazgāt ar trauku mazgāšanas līdzekli – pietiks, ja to rūpīgi izskalos ar ūd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lastmasai paredzētajā konteinerā nedrīkst mest plastmasas rotaļlietas un sadzīves priekšmetus, kā arī vienreizlietojamos trauk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kont_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898880" y="1962000"/>
            <a:ext cx="3345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plastmasas iepakojums ar rokām tiek sašķirots pa materiālu veidiem: PET pudeles, plēve, HDPE pudeles un kanniņ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i iegūtu augstvērtīgas otrreizējās izejvielas, PET pudeles un plēves tiek sašķirotas arī pēc krās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strādes rūpnīcā iepakojums tiek sasmalci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rms smalcināšanas ir svarīgi atdalīt visus svešķermeņus, kas reizēm atrodami plastmasas iepakoju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ev.png"/>
          <p:cNvPicPr/>
          <p:nvPr/>
        </p:nvPicPr>
        <p:blipFill>
          <a:blip r:embed="rId1"/>
          <a:stretch/>
        </p:blipFill>
        <p:spPr>
          <a:xfrm>
            <a:off x="5499000" y="1778040"/>
            <a:ext cx="30178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azgāšana, atdalīšana un žāv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ais materiāls tiek mazg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trādē atsevišķi tiek atdalīts PET un HDPE materiāls, no kā gatavoti pudeļu korķīš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gūtās pārslas tiek žāvē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www.cleanmiddleeast.ae/editor_files/image/october/cover_story/horizon-62-%282%29.jpg"/>
          <p:cNvPicPr/>
          <p:nvPr/>
        </p:nvPicPr>
        <p:blipFill>
          <a:blip r:embed="rId1"/>
          <a:stretch/>
        </p:blipFill>
        <p:spPr>
          <a:xfrm>
            <a:off x="2614680" y="4051440"/>
            <a:ext cx="345600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Granul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795168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DPE un LDPE pārstrādes procesā iegūtās pārslas tiek pārvērstas granulā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ET pārslas, kā arī HDPE un LDPE granulas fasē maisos un pārdod dažādu plastmasas izstrādājumu ražotāj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lowchart: Direct Access Storage 4"/>
          <p:cNvSpPr/>
          <p:nvPr/>
        </p:nvSpPr>
        <p:spPr>
          <a:xfrm>
            <a:off x="1828800" y="4272120"/>
            <a:ext cx="1573200" cy="765000"/>
          </a:xfrm>
          <a:prstGeom prst="flowChartMagneticDrum">
            <a:avLst/>
          </a:pr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Direct Access Storage 7"/>
          <p:cNvSpPr/>
          <p:nvPr/>
        </p:nvSpPr>
        <p:spPr>
          <a:xfrm rot="20700000">
            <a:off x="3925800" y="5109840"/>
            <a:ext cx="1463760" cy="763560"/>
          </a:xfrm>
          <a:prstGeom prst="flowChartMagneticDrum">
            <a:avLst/>
          </a:prstGeom>
          <a:solidFill>
            <a:srgbClr val="c3d69b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8"/>
          <p:cNvSpPr/>
          <p:nvPr/>
        </p:nvSpPr>
        <p:spPr>
          <a:xfrm rot="20700000">
            <a:off x="5051520" y="5155920"/>
            <a:ext cx="179280" cy="33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Direct Access Storage 9"/>
          <p:cNvSpPr/>
          <p:nvPr/>
        </p:nvSpPr>
        <p:spPr>
          <a:xfrm rot="900000">
            <a:off x="6192720" y="4412880"/>
            <a:ext cx="1430280" cy="765360"/>
          </a:xfrm>
          <a:prstGeom prst="flowChartMagneticDrum">
            <a:avLst/>
          </a:prstGeom>
          <a:solidFill>
            <a:srgbClr val="e6b9b8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10"/>
          <p:cNvSpPr/>
          <p:nvPr/>
        </p:nvSpPr>
        <p:spPr>
          <a:xfrm rot="900000">
            <a:off x="7270560" y="4750920"/>
            <a:ext cx="179280" cy="330480"/>
          </a:xfrm>
          <a:prstGeom prst="ellipse">
            <a:avLst/>
          </a:prstGeom>
          <a:solidFill>
            <a:srgbClr val="953735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Otrreizējo izejvielu izmant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4968720" cy="47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T pārslas galvenokārt izmanto poliestera šķiedras, kā arī jaunu PET pudeļu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otrreizējās HDPE un LDPE plastmasas gatavo gan jaunu plēvi, gan sadzīvē noderīgus plastmasas izstrādāju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st.houzz.com/simgs/7d9124c80f8cc43a_4-0178/contemporary-dining-bowls.jpg"/>
          <p:cNvPicPr/>
          <p:nvPr/>
        </p:nvPicPr>
        <p:blipFill>
          <a:blip r:embed="rId1"/>
          <a:stretch/>
        </p:blipFill>
        <p:spPr>
          <a:xfrm>
            <a:off x="5267160" y="2081160"/>
            <a:ext cx="346716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30:03Z</dcterms:modified>
  <cp:revision>41</cp:revision>
  <dc:subject/>
  <dc:title>Papīra pārstrāde</dc:title>
</cp:coreProperties>
</file>