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BF114-BE68-4F62-8522-4A3F20B007E0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Papīram paredzētajā konteinerā drīkst mest papīru, avīzes, grāmatas, kartona kastes un kārb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4E8AE-1E48-4985-993D-7F42CCC64429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0D6BD-DD80-4682-9214-2D752AFE6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E8D64-724E-4049-ACF2-D99C001EE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A2930-F9A3-4322-9330-856E6DE31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23657-6F48-4944-A547-3BB0261F7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171E7-FEF1-4A3B-8BE7-42786DD69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E1E45-833A-4294-829A-C0EFF0C7C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37866-66D4-4BA3-A7E0-12080FBAA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65FFE-AF79-4386-874B-7AA5E3748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E82D0-04EC-4823-B2C7-10D6E5729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1A358-D446-47AD-98D1-1F1756468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906E9-BBFD-409F-B59B-4C30ACF25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F5479-17AA-4F98-92C7-DFEA432A4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7E158-FD5D-4D7A-8B52-898198D3DE31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Stikla pārstrā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Pārstrādes cik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6840" y="1600200"/>
            <a:ext cx="4762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Šķiroša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Pāršķirošana un svešķermeņu atdalīša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Smalcināša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Kausēša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Jauna iepakojuma izgatavoša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Freeform 6"/>
          <p:cNvSpPr/>
          <p:nvPr/>
        </p:nvSpPr>
        <p:spPr>
          <a:xfrm>
            <a:off x="6229440" y="2457360"/>
            <a:ext cx="1066680" cy="762120"/>
          </a:xfrm>
          <a:custGeom>
            <a:avLst/>
            <a:gdLst/>
            <a:ahLst/>
            <a:rect l="l" t="t" r="r" b="b"/>
            <a:pathLst>
              <a:path w="1066800" h="762000">
                <a:moveTo>
                  <a:pt x="0" y="0"/>
                </a:moveTo>
                <a:lnTo>
                  <a:pt x="714375" y="9525"/>
                </a:lnTo>
                <a:lnTo>
                  <a:pt x="876300" y="323850"/>
                </a:lnTo>
                <a:lnTo>
                  <a:pt x="1066800" y="238125"/>
                </a:lnTo>
                <a:lnTo>
                  <a:pt x="781050" y="723900"/>
                </a:lnTo>
                <a:lnTo>
                  <a:pt x="209550" y="762000"/>
                </a:lnTo>
                <a:lnTo>
                  <a:pt x="438150" y="647700"/>
                </a:lnTo>
                <a:lnTo>
                  <a:pt x="47625" y="47625"/>
                </a:lnTo>
                <a:lnTo>
                  <a:pt x="0" y="0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reeform 7"/>
          <p:cNvSpPr/>
          <p:nvPr/>
        </p:nvSpPr>
        <p:spPr>
          <a:xfrm>
            <a:off x="6858000" y="3181320"/>
            <a:ext cx="743040" cy="809640"/>
          </a:xfrm>
          <a:custGeom>
            <a:avLst/>
            <a:gdLst/>
            <a:ahLst/>
            <a:rect l="l" t="t" r="r" b="b"/>
            <a:pathLst>
              <a:path w="742950" h="809625">
                <a:moveTo>
                  <a:pt x="0" y="295275"/>
                </a:moveTo>
                <a:lnTo>
                  <a:pt x="476250" y="0"/>
                </a:lnTo>
                <a:lnTo>
                  <a:pt x="733425" y="476250"/>
                </a:lnTo>
                <a:lnTo>
                  <a:pt x="742950" y="609600"/>
                </a:lnTo>
                <a:lnTo>
                  <a:pt x="685800" y="723900"/>
                </a:lnTo>
                <a:lnTo>
                  <a:pt x="581025" y="790575"/>
                </a:lnTo>
                <a:lnTo>
                  <a:pt x="381000" y="809625"/>
                </a:lnTo>
                <a:lnTo>
                  <a:pt x="266700" y="809625"/>
                </a:lnTo>
                <a:lnTo>
                  <a:pt x="0" y="295275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Freeform 8"/>
          <p:cNvSpPr/>
          <p:nvPr/>
        </p:nvSpPr>
        <p:spPr>
          <a:xfrm>
            <a:off x="6477120" y="3886200"/>
            <a:ext cx="1028520" cy="952560"/>
          </a:xfrm>
          <a:custGeom>
            <a:avLst/>
            <a:gdLst/>
            <a:ahLst/>
            <a:rect l="l" t="t" r="r" b="b"/>
            <a:pathLst>
              <a:path w="1028700" h="952500">
                <a:moveTo>
                  <a:pt x="1028700" y="123825"/>
                </a:moveTo>
                <a:lnTo>
                  <a:pt x="981075" y="219075"/>
                </a:lnTo>
                <a:lnTo>
                  <a:pt x="276225" y="200025"/>
                </a:lnTo>
                <a:lnTo>
                  <a:pt x="266700" y="0"/>
                </a:lnTo>
                <a:lnTo>
                  <a:pt x="0" y="457200"/>
                </a:lnTo>
                <a:lnTo>
                  <a:pt x="266700" y="952500"/>
                </a:lnTo>
                <a:lnTo>
                  <a:pt x="276225" y="762000"/>
                </a:lnTo>
                <a:lnTo>
                  <a:pt x="695325" y="733425"/>
                </a:lnTo>
                <a:lnTo>
                  <a:pt x="1028700" y="123825"/>
                </a:lnTo>
                <a:close/>
              </a:path>
            </a:pathLst>
          </a:custGeom>
          <a:solidFill>
            <a:srgbClr val="bfbfbf"/>
          </a:solidFill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reeform 9"/>
          <p:cNvSpPr/>
          <p:nvPr/>
        </p:nvSpPr>
        <p:spPr>
          <a:xfrm>
            <a:off x="5286240" y="4029120"/>
            <a:ext cx="1038240" cy="619200"/>
          </a:xfrm>
          <a:custGeom>
            <a:avLst/>
            <a:gdLst/>
            <a:ahLst/>
            <a:rect l="l" t="t" r="r" b="b"/>
            <a:pathLst>
              <a:path w="1038225" h="619125">
                <a:moveTo>
                  <a:pt x="0" y="0"/>
                </a:moveTo>
                <a:lnTo>
                  <a:pt x="361950" y="619125"/>
                </a:lnTo>
                <a:lnTo>
                  <a:pt x="1038225" y="619125"/>
                </a:lnTo>
                <a:lnTo>
                  <a:pt x="1028700" y="38100"/>
                </a:lnTo>
                <a:lnTo>
                  <a:pt x="28575" y="47625"/>
                </a:lnTo>
                <a:lnTo>
                  <a:pt x="0" y="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Freeform 10"/>
          <p:cNvSpPr/>
          <p:nvPr/>
        </p:nvSpPr>
        <p:spPr>
          <a:xfrm>
            <a:off x="5172120" y="3305160"/>
            <a:ext cx="847800" cy="685800"/>
          </a:xfrm>
          <a:custGeom>
            <a:avLst/>
            <a:gdLst/>
            <a:ahLst/>
            <a:rect l="l" t="t" r="r" b="b"/>
            <a:pathLst>
              <a:path w="847725" h="685800">
                <a:moveTo>
                  <a:pt x="28575" y="0"/>
                </a:moveTo>
                <a:lnTo>
                  <a:pt x="581025" y="9525"/>
                </a:lnTo>
                <a:lnTo>
                  <a:pt x="847725" y="466725"/>
                </a:lnTo>
                <a:lnTo>
                  <a:pt x="685800" y="390525"/>
                </a:lnTo>
                <a:lnTo>
                  <a:pt x="476250" y="666750"/>
                </a:lnTo>
                <a:lnTo>
                  <a:pt x="333375" y="685800"/>
                </a:lnTo>
                <a:lnTo>
                  <a:pt x="180975" y="657225"/>
                </a:lnTo>
                <a:lnTo>
                  <a:pt x="95250" y="590550"/>
                </a:lnTo>
                <a:lnTo>
                  <a:pt x="57150" y="485775"/>
                </a:lnTo>
                <a:lnTo>
                  <a:pt x="0" y="371475"/>
                </a:lnTo>
                <a:lnTo>
                  <a:pt x="180975" y="114300"/>
                </a:lnTo>
                <a:lnTo>
                  <a:pt x="28575" y="0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reeform 11"/>
          <p:cNvSpPr/>
          <p:nvPr/>
        </p:nvSpPr>
        <p:spPr>
          <a:xfrm>
            <a:off x="5562720" y="2486160"/>
            <a:ext cx="780840" cy="847440"/>
          </a:xfrm>
          <a:custGeom>
            <a:avLst/>
            <a:gdLst/>
            <a:ahLst/>
            <a:rect l="l" t="t" r="r" b="b"/>
            <a:pathLst>
              <a:path w="781050" h="847725">
                <a:moveTo>
                  <a:pt x="0" y="533400"/>
                </a:moveTo>
                <a:lnTo>
                  <a:pt x="285750" y="9525"/>
                </a:lnTo>
                <a:lnTo>
                  <a:pt x="561975" y="0"/>
                </a:lnTo>
                <a:lnTo>
                  <a:pt x="676275" y="114300"/>
                </a:lnTo>
                <a:lnTo>
                  <a:pt x="781050" y="285750"/>
                </a:lnTo>
                <a:lnTo>
                  <a:pt x="485775" y="847725"/>
                </a:lnTo>
                <a:lnTo>
                  <a:pt x="0" y="53340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Šķiroša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Zaļajā konteinerā drīkst mest tikai stikla iepakojumu – pudeles un burk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Konteinerā drīkst mest tikai tīru iepakojum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Nav nepieciešams iepakojumu mazgāt ar trauku mazgāšanas līdzekli – pietiks, ja to rūpīgi izskalos ar ūden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3" descr="kont_3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4392720" y="2095560"/>
            <a:ext cx="3597120" cy="36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000" spc="-1" strike="noStrike">
                <a:solidFill>
                  <a:srgbClr val="000000"/>
                </a:solidFill>
                <a:latin typeface="Calibri"/>
              </a:rPr>
              <a:t>Pāršķirošana un svešķermeņu atdalīšan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Izmantojot mūsdienīgas šķirošanas līnijas, stiklu ir iespējams sašķirot pa krāsā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Šķirošanas līnijās automatizētā procesā tiek atdalīti dažādi piemaisījumi, piemēram, metāls, keramika, akmeņi u.tm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" descr="http://www.acedisposal.com/wp-content/uploads/2014/06/glass-2-300x225.jpg"/>
          <p:cNvPicPr/>
          <p:nvPr/>
        </p:nvPicPr>
        <p:blipFill>
          <a:blip r:embed="rId1"/>
          <a:stretch/>
        </p:blipFill>
        <p:spPr>
          <a:xfrm>
            <a:off x="2778120" y="4383000"/>
            <a:ext cx="28576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Smalcināša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69520" y="1599840"/>
            <a:ext cx="7674120" cy="462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Tīrais stikla iepakojums tiek sasmalcinā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Latvijā sašķirotais stikla iepakojums nonāk pārstrādes rūpnīcās Lietuvā un Ukrain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http://www.return-it.ca/images/Green-Bottle-Cullet.jpg"/>
          <p:cNvPicPr/>
          <p:nvPr/>
        </p:nvPicPr>
        <p:blipFill>
          <a:blip r:embed="rId1"/>
          <a:stretch/>
        </p:blipFill>
        <p:spPr>
          <a:xfrm>
            <a:off x="4842000" y="2014560"/>
            <a:ext cx="375732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Kausēša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7951680" cy="325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Sasmalcinātais stikls tiek izkausēts milzīgā krāsnī un sajaukts ar pirmreizējām stikla izejvielā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Stikla ražošanai izmanto kvarca smiltis, sodu un kaļķakmeni, bet 30–40% no kopējās izejvielu masas aizvietojot ar otrreizēji pārstrādātu materiāl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2" descr="http://www.agc-glass.eu/01/MyImages/2260new.jpg"/>
          <p:cNvPicPr/>
          <p:nvPr/>
        </p:nvPicPr>
        <p:blipFill>
          <a:blip r:embed="rId1"/>
          <a:stretch/>
        </p:blipFill>
        <p:spPr>
          <a:xfrm>
            <a:off x="2389320" y="4067280"/>
            <a:ext cx="4206600" cy="23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Jauna iepakojuma izgatavoša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Calibri"/>
              </a:rPr>
              <a:t>No viendabīgās stikla masas ražo jaunu stikla iepakojumu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Calibri"/>
              </a:rPr>
              <a:t>No pārstrādāta materiāla gatavotai pudelei ir tāda pati kvalitāte kā tai, kas ražota no smiltī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AutoShape 8"/>
          <p:cNvSpPr/>
          <p:nvPr/>
        </p:nvSpPr>
        <p:spPr>
          <a:xfrm>
            <a:off x="155520" y="-868320"/>
            <a:ext cx="1238400" cy="18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AutoShape 10"/>
          <p:cNvSpPr/>
          <p:nvPr/>
        </p:nvSpPr>
        <p:spPr>
          <a:xfrm>
            <a:off x="155520" y="-868320"/>
            <a:ext cx="1238400" cy="18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AutoShape 12"/>
          <p:cNvSpPr/>
          <p:nvPr/>
        </p:nvSpPr>
        <p:spPr>
          <a:xfrm>
            <a:off x="155520" y="-868320"/>
            <a:ext cx="1238400" cy="18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AutoShape 14"/>
          <p:cNvSpPr/>
          <p:nvPr/>
        </p:nvSpPr>
        <p:spPr>
          <a:xfrm>
            <a:off x="155520" y="-868320"/>
            <a:ext cx="1238400" cy="18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AutoShape 1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AutoShape 1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AutoShape 20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21" descr="m3.png"/>
          <p:cNvPicPr/>
          <p:nvPr/>
        </p:nvPicPr>
        <p:blipFill>
          <a:blip r:embed="rId1"/>
          <a:stretch/>
        </p:blipFill>
        <p:spPr>
          <a:xfrm>
            <a:off x="3762360" y="3768840"/>
            <a:ext cx="1498680" cy="24336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4" descr="m4.png"/>
          <p:cNvPicPr/>
          <p:nvPr/>
        </p:nvPicPr>
        <p:blipFill>
          <a:blip r:embed="rId2"/>
          <a:stretch/>
        </p:blipFill>
        <p:spPr>
          <a:xfrm>
            <a:off x="1623960" y="4145040"/>
            <a:ext cx="1309680" cy="19810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5" descr="m5.png"/>
          <p:cNvPicPr/>
          <p:nvPr/>
        </p:nvPicPr>
        <p:blipFill>
          <a:blip r:embed="rId3"/>
          <a:stretch/>
        </p:blipFill>
        <p:spPr>
          <a:xfrm>
            <a:off x="6211800" y="4152960"/>
            <a:ext cx="1352520" cy="2039760"/>
          </a:xfrm>
          <a:prstGeom prst="rect">
            <a:avLst/>
          </a:prstGeom>
          <a:ln w="0">
            <a:noFill/>
          </a:ln>
        </p:spPr>
      </p:pic>
      <p:sp>
        <p:nvSpPr>
          <p:cNvPr id="81" name="Oval 26"/>
          <p:cNvSpPr/>
          <p:nvPr/>
        </p:nvSpPr>
        <p:spPr>
          <a:xfrm>
            <a:off x="1793880" y="4227480"/>
            <a:ext cx="974880" cy="284040"/>
          </a:xfrm>
          <a:prstGeom prst="ellipse">
            <a:avLst/>
          </a:prstGeom>
          <a:solidFill>
            <a:srgbClr val="8eb4e3"/>
          </a:solidFill>
          <a:ln w="25560">
            <a:solidFill>
              <a:srgbClr val="8eb4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val 27"/>
          <p:cNvSpPr/>
          <p:nvPr/>
        </p:nvSpPr>
        <p:spPr>
          <a:xfrm>
            <a:off x="6408720" y="4245120"/>
            <a:ext cx="974880" cy="258480"/>
          </a:xfrm>
          <a:prstGeom prst="ellipse">
            <a:avLst/>
          </a:prstGeom>
          <a:solidFill>
            <a:srgbClr val="f2f2f2"/>
          </a:solidFill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Pudeļu izgatavošana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Tā sauktajā pudeļmašīnā 1200°C temperatūrā īpašās formās top stikla pude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Kad pudeles gatavas, tās lēnām atdziest jeb norūdā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Pēc rūdīšanas pudeles aizceļo uz šķirošanu, kur tās automātiski pārbaud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Brāķētās pudeles atgriežas kausēšanas krāsnī, veselās tiek iepakotas vakuumā un nosūtītas pudeļu pildītāji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18T10:30:24Z</dcterms:created>
  <dc:creator>User</dc:creator>
  <dc:description/>
  <dc:language>en-US</dc:language>
  <cp:lastModifiedBy>Admin</cp:lastModifiedBy>
  <dcterms:modified xsi:type="dcterms:W3CDTF">2015-04-17T11:33:22Z</dcterms:modified>
  <cp:revision>38</cp:revision>
  <dc:subject/>
  <dc:title>Papīra pārstrāde</dc:title>
</cp:coreProperties>
</file>