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F90E-5205-4F5B-803E-790A055D7E1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apīram paredzētajā konteinerā drīkst mest papīru, avīzes, grāmatas, kartona kastes un kār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ACED-4042-4558-B332-CF41E5534A38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A2F2-8FD4-40BA-ABFD-DC873DEE9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8A92-3671-4E53-985A-545BC50E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09E6-A8E0-4104-B3F7-5C0350642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9FE7-FCC1-48E8-8B0C-904DAA717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0FE1-B8FC-4307-A649-3F045327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8905-6100-423E-80D2-67AAD911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AAD2-2316-4347-AD4D-FDFE1FAE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F590-E652-40E0-9015-CD15C8FB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59AA-C55D-414A-900F-C8CA61A0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EA2F-7152-4164-9803-35CEDF2A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92AF-CE2C-4C60-B91B-D72BA597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B179-2AE4-4CB3-A9B8-6FA9DCB8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F928-ACA7-4CAB-B273-3C458C72058B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tikla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 un svešķermeņu atdalī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us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 iepakojuma izgatav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bfbfb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aļajā konteinerā drīkst mest tikai stikla iepakojumu – pudeles un burk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nteinerā drīkst mest tikai tīru iepakoju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av nepieciešams iepakojumu mazgāt ar trauku mazgāšanas līdzekli – pietiks, ja to rūpīgi izskalos ar ūd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kont_3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392720" y="2095560"/>
            <a:ext cx="35971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Calibri"/>
              </a:rPr>
              <a:t>Pāršķirošana un svešķermeņu atdalīša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zmantojot mūsdienīgas šķirošanas līnijas, stiklu ir iespējams sašķirot pa krāsā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s līnijās automatizētā procesā tiek atdalīti dažādi piemaisījumi, piemēram, metāls, keramika, akmeņi u.tm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www.acedisposal.com/wp-content/uploads/2014/06/glass-2-300x225.jpg"/>
          <p:cNvPicPr/>
          <p:nvPr/>
        </p:nvPicPr>
        <p:blipFill>
          <a:blip r:embed="rId1"/>
          <a:stretch/>
        </p:blipFill>
        <p:spPr>
          <a:xfrm>
            <a:off x="2778120" y="43830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69520" y="1599840"/>
            <a:ext cx="7674120" cy="46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Tīrais stikla iepakojums tiek sasmalcinā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Latvijā sašķirotais stikla iepakojums nonāk pārstrādes rūpnīcās Lietuvā un Ukrain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www.return-it.ca/images/Green-Bottle-Cullet.jpg"/>
          <p:cNvPicPr/>
          <p:nvPr/>
        </p:nvPicPr>
        <p:blipFill>
          <a:blip r:embed="rId1"/>
          <a:stretch/>
        </p:blipFill>
        <p:spPr>
          <a:xfrm>
            <a:off x="4842000" y="2014560"/>
            <a:ext cx="37573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Kaus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7951680" cy="32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asmalcinātais stikls tiek izkausēts milzīgā krāsnī un sajaukts ar pirmreizējām stikla izejvielā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tikla ražošanai izmanto kvarca smiltis, sodu un kaļķakmeni, bet 30–40% no kopējās izejvielu masas aizvietojot ar otrreizēji pārstrādātu materiāl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www.agc-glass.eu/01/MyImages/2260new.jpg"/>
          <p:cNvPicPr/>
          <p:nvPr/>
        </p:nvPicPr>
        <p:blipFill>
          <a:blip r:embed="rId1"/>
          <a:stretch/>
        </p:blipFill>
        <p:spPr>
          <a:xfrm>
            <a:off x="2389320" y="4067280"/>
            <a:ext cx="42066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Jauna iepakojuma izgatav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</a:rPr>
              <a:t>No viendabīgās stikla masas ražo jaunu stikla iepakojum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</a:rPr>
              <a:t>No pārstrādāta materiāla gatavotai pudelei ir tāda pati kvalitāte kā tai, kas ražota no smiltī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14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2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1" descr="m3.png"/>
          <p:cNvPicPr/>
          <p:nvPr/>
        </p:nvPicPr>
        <p:blipFill>
          <a:blip r:embed="rId1"/>
          <a:stretch/>
        </p:blipFill>
        <p:spPr>
          <a:xfrm>
            <a:off x="3762360" y="3768840"/>
            <a:ext cx="1498680" cy="2433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4" descr="m4.png"/>
          <p:cNvPicPr/>
          <p:nvPr/>
        </p:nvPicPr>
        <p:blipFill>
          <a:blip r:embed="rId2"/>
          <a:stretch/>
        </p:blipFill>
        <p:spPr>
          <a:xfrm>
            <a:off x="1623960" y="4145040"/>
            <a:ext cx="1309680" cy="1981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5" descr="m5.png"/>
          <p:cNvPicPr/>
          <p:nvPr/>
        </p:nvPicPr>
        <p:blipFill>
          <a:blip r:embed="rId3"/>
          <a:stretch/>
        </p:blipFill>
        <p:spPr>
          <a:xfrm>
            <a:off x="6211800" y="4152960"/>
            <a:ext cx="1352520" cy="2039760"/>
          </a:xfrm>
          <a:prstGeom prst="rect">
            <a:avLst/>
          </a:prstGeom>
          <a:ln w="0">
            <a:noFill/>
          </a:ln>
        </p:spPr>
      </p:pic>
      <p:sp>
        <p:nvSpPr>
          <p:cNvPr id="81" name="Oval 26"/>
          <p:cNvSpPr/>
          <p:nvPr/>
        </p:nvSpPr>
        <p:spPr>
          <a:xfrm>
            <a:off x="1793880" y="4227480"/>
            <a:ext cx="974880" cy="28404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val 27"/>
          <p:cNvSpPr/>
          <p:nvPr/>
        </p:nvSpPr>
        <p:spPr>
          <a:xfrm>
            <a:off x="6408720" y="4245120"/>
            <a:ext cx="974880" cy="25848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udeļu izgatavošan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ā sauktajā pudeļmašīnā 1200°C temperatūrā īpašās formās top stikla pude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d pudeles gatavas, tās lēnām atdziest jeb norūdā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rūdīšanas pudeles aizceļo uz šķirošanu, kur tās automātiski pārbau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āķētās pudeles atgriežas kausēšanas krāsnī, veselās tiek iepakotas vakuumā un nosūtītas pudeļu pildītāj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33:22Z</dcterms:modified>
  <cp:revision>38</cp:revision>
  <dc:subject/>
  <dc:title>Papīra pārstrāde</dc:title>
</cp:coreProperties>
</file>