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DC2A9-85E4-4187-80F3-2AC4F7BCCB45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irms izmešanas plastmasas nepieciešams saplacinā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23223-2B6A-47D5-A1FD-8438163F65B8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68E4-58D2-4300-8FD6-60AFF0FA5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B664-3B1F-4029-B02B-D3845E11C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0AD3-00C1-4059-9580-94AD85906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E48E-7891-409F-B306-E2F486297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AC26-1DDE-495E-AD49-D740F63FB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CF4E-5374-4CF8-89F4-44BF9C42E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22D4-B9D2-4DD0-9BC3-D090ED47A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C48C-7419-4242-B19E-CF3049FA4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5D5A-CA97-441B-9CCD-2EC38F2B2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5633-D040-4EB9-9A1D-99978CDD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1AAD-D196-4F16-ABB2-A2F8E385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2BE5-19B1-49B5-BC7B-34E726D5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7114A-ACDE-4773-833A-18362E28DF1D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lastmasas pārstrā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strādes cik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ār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malcinā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zgāšana, atdalīšana un žāvē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Granulē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Otrreizējo izejvielu izmant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6229440" y="2457360"/>
            <a:ext cx="1066680" cy="762120"/>
          </a:xfrm>
          <a:custGeom>
            <a:avLst/>
            <a:gdLst/>
            <a:ahLst/>
            <a:rect l="l" t="t" r="r" b="b"/>
            <a:pathLst>
              <a:path w="1066800" h="762000">
                <a:moveTo>
                  <a:pt x="0" y="0"/>
                </a:moveTo>
                <a:lnTo>
                  <a:pt x="714375" y="9525"/>
                </a:lnTo>
                <a:lnTo>
                  <a:pt x="876300" y="323850"/>
                </a:lnTo>
                <a:lnTo>
                  <a:pt x="1066800" y="238125"/>
                </a:lnTo>
                <a:lnTo>
                  <a:pt x="781050" y="723900"/>
                </a:lnTo>
                <a:lnTo>
                  <a:pt x="209550" y="762000"/>
                </a:lnTo>
                <a:lnTo>
                  <a:pt x="438150" y="647700"/>
                </a:lnTo>
                <a:lnTo>
                  <a:pt x="4762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6858000" y="3181320"/>
            <a:ext cx="743040" cy="809640"/>
          </a:xfrm>
          <a:custGeom>
            <a:avLst/>
            <a:gdLst/>
            <a:ahLst/>
            <a:rect l="l" t="t" r="r" b="b"/>
            <a:pathLst>
              <a:path w="742950" h="809625">
                <a:moveTo>
                  <a:pt x="0" y="295275"/>
                </a:moveTo>
                <a:lnTo>
                  <a:pt x="476250" y="0"/>
                </a:lnTo>
                <a:lnTo>
                  <a:pt x="733425" y="476250"/>
                </a:lnTo>
                <a:lnTo>
                  <a:pt x="742950" y="609600"/>
                </a:lnTo>
                <a:lnTo>
                  <a:pt x="685800" y="723900"/>
                </a:lnTo>
                <a:lnTo>
                  <a:pt x="581025" y="790575"/>
                </a:lnTo>
                <a:lnTo>
                  <a:pt x="381000" y="809625"/>
                </a:lnTo>
                <a:lnTo>
                  <a:pt x="266700" y="809625"/>
                </a:lnTo>
                <a:lnTo>
                  <a:pt x="0" y="295275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6477120" y="3886200"/>
            <a:ext cx="1028520" cy="952560"/>
          </a:xfrm>
          <a:custGeom>
            <a:avLst/>
            <a:gdLst/>
            <a:ahLst/>
            <a:rect l="l" t="t" r="r" b="b"/>
            <a:pathLst>
              <a:path w="1028700" h="952500">
                <a:moveTo>
                  <a:pt x="1028700" y="123825"/>
                </a:moveTo>
                <a:lnTo>
                  <a:pt x="981075" y="219075"/>
                </a:lnTo>
                <a:lnTo>
                  <a:pt x="276225" y="200025"/>
                </a:lnTo>
                <a:lnTo>
                  <a:pt x="266700" y="0"/>
                </a:lnTo>
                <a:lnTo>
                  <a:pt x="0" y="457200"/>
                </a:lnTo>
                <a:lnTo>
                  <a:pt x="266700" y="952500"/>
                </a:lnTo>
                <a:lnTo>
                  <a:pt x="276225" y="762000"/>
                </a:lnTo>
                <a:lnTo>
                  <a:pt x="695325" y="733425"/>
                </a:lnTo>
                <a:lnTo>
                  <a:pt x="1028700" y="123825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5286240" y="4029120"/>
            <a:ext cx="1038240" cy="619200"/>
          </a:xfrm>
          <a:custGeom>
            <a:avLst/>
            <a:gdLst/>
            <a:ahLst/>
            <a:rect l="l" t="t" r="r" b="b"/>
            <a:pathLst>
              <a:path w="1038225" h="619125">
                <a:moveTo>
                  <a:pt x="0" y="0"/>
                </a:moveTo>
                <a:lnTo>
                  <a:pt x="361950" y="619125"/>
                </a:lnTo>
                <a:lnTo>
                  <a:pt x="1038225" y="619125"/>
                </a:lnTo>
                <a:lnTo>
                  <a:pt x="1028700" y="38100"/>
                </a:lnTo>
                <a:lnTo>
                  <a:pt x="2857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Freeform 10"/>
          <p:cNvSpPr/>
          <p:nvPr/>
        </p:nvSpPr>
        <p:spPr>
          <a:xfrm>
            <a:off x="5172120" y="3305160"/>
            <a:ext cx="847800" cy="685800"/>
          </a:xfrm>
          <a:custGeom>
            <a:avLst/>
            <a:gdLst/>
            <a:ahLst/>
            <a:rect l="l" t="t" r="r" b="b"/>
            <a:pathLst>
              <a:path w="847725" h="685800">
                <a:moveTo>
                  <a:pt x="28575" y="0"/>
                </a:moveTo>
                <a:lnTo>
                  <a:pt x="581025" y="9525"/>
                </a:lnTo>
                <a:lnTo>
                  <a:pt x="847725" y="466725"/>
                </a:lnTo>
                <a:lnTo>
                  <a:pt x="685800" y="390525"/>
                </a:lnTo>
                <a:lnTo>
                  <a:pt x="476250" y="666750"/>
                </a:lnTo>
                <a:lnTo>
                  <a:pt x="333375" y="685800"/>
                </a:lnTo>
                <a:lnTo>
                  <a:pt x="180975" y="657225"/>
                </a:lnTo>
                <a:lnTo>
                  <a:pt x="95250" y="590550"/>
                </a:lnTo>
                <a:lnTo>
                  <a:pt x="57150" y="485775"/>
                </a:lnTo>
                <a:lnTo>
                  <a:pt x="0" y="371475"/>
                </a:lnTo>
                <a:lnTo>
                  <a:pt x="180975" y="114300"/>
                </a:lnTo>
                <a:lnTo>
                  <a:pt x="28575" y="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Freeform 11"/>
          <p:cNvSpPr/>
          <p:nvPr/>
        </p:nvSpPr>
        <p:spPr>
          <a:xfrm>
            <a:off x="5562720" y="2486160"/>
            <a:ext cx="780840" cy="847440"/>
          </a:xfrm>
          <a:custGeom>
            <a:avLst/>
            <a:gdLst/>
            <a:ahLst/>
            <a:rect l="l" t="t" r="r" b="b"/>
            <a:pathLst>
              <a:path w="781050" h="847725">
                <a:moveTo>
                  <a:pt x="0" y="533400"/>
                </a:moveTo>
                <a:lnTo>
                  <a:pt x="285750" y="9525"/>
                </a:lnTo>
                <a:lnTo>
                  <a:pt x="561975" y="0"/>
                </a:lnTo>
                <a:lnTo>
                  <a:pt x="676275" y="114300"/>
                </a:lnTo>
                <a:lnTo>
                  <a:pt x="781050" y="285750"/>
                </a:lnTo>
                <a:lnTo>
                  <a:pt x="485775" y="847725"/>
                </a:lnTo>
                <a:lnTo>
                  <a:pt x="0" y="5334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onteinerā drīkst mest tikai tīru iepakojumu. To nav nepieciešams mazgāt ar trauku mazgāšanas līdzekli – pietiks, ja to rūpīgi izskalos ar ūde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lastmasai paredzētajā konteinerā nedrīkst mest plastmasas rotaļlietas un sadzīves priekšmetus, kā arī vienreizlietojamos trauk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kont_2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898880" y="1962000"/>
            <a:ext cx="334512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Uz šķirošanas līnijas plastmasas iepakojums ar rokām tiek sašķirots pa materiālu veidiem: PET pudeles, plēve, HDPE pudeles un kanniņ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ai iegūtu augstvērtīgas otrreizējās izejvielas, PET pudeles un plēves tiek sašķirotas arī pēc krās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malcinā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ārstrādes rūpnīcā iepakojums tiek sasmalcinā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irms smalcināšanas ir svarīgi atdalīt visus svešķermeņus, kas reizēm atrodami plastmasas iepakojum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ev.png"/>
          <p:cNvPicPr/>
          <p:nvPr/>
        </p:nvPicPr>
        <p:blipFill>
          <a:blip r:embed="rId1"/>
          <a:stretch/>
        </p:blipFill>
        <p:spPr>
          <a:xfrm>
            <a:off x="5499000" y="1778040"/>
            <a:ext cx="301788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Mazgāšana, atdalīšana un žāv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egūtais materiāls tiek mazgā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ET pārstrādē atsevišķi tiek atdalīts PET un HDPE materiāls, no kā gatavoti pudeļu korķīš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egūtās pārslas tiek žāvēt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://www.cleanmiddleeast.ae/editor_files/image/october/cover_story/horizon-62-%282%29.jpg"/>
          <p:cNvPicPr/>
          <p:nvPr/>
        </p:nvPicPr>
        <p:blipFill>
          <a:blip r:embed="rId1"/>
          <a:stretch/>
        </p:blipFill>
        <p:spPr>
          <a:xfrm>
            <a:off x="2614680" y="4051440"/>
            <a:ext cx="3456000" cy="22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Granul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7951680" cy="25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DPE un LDPE pārstrādes procesā iegūtās pārslas tiek pārvērstas granulā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ET pārslas, kā arī HDPE un LDPE granulas fasē maisos un pārdod dažādu plastmasas izstrādājumu ražotāji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Flowchart: Direct Access Storage 4"/>
          <p:cNvSpPr/>
          <p:nvPr/>
        </p:nvSpPr>
        <p:spPr>
          <a:xfrm>
            <a:off x="1828800" y="4272120"/>
            <a:ext cx="1573200" cy="765000"/>
          </a:xfrm>
          <a:prstGeom prst="flowChartMagneticDrum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lowchart: Direct Access Storage 7"/>
          <p:cNvSpPr/>
          <p:nvPr/>
        </p:nvSpPr>
        <p:spPr>
          <a:xfrm rot="20700000">
            <a:off x="3925800" y="5109840"/>
            <a:ext cx="1463760" cy="763560"/>
          </a:xfrm>
          <a:prstGeom prst="flowChartMagneticDrum">
            <a:avLst/>
          </a:prstGeom>
          <a:solidFill>
            <a:srgbClr val="c3d69b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Oval 8"/>
          <p:cNvSpPr/>
          <p:nvPr/>
        </p:nvSpPr>
        <p:spPr>
          <a:xfrm rot="20700000">
            <a:off x="5051520" y="5155920"/>
            <a:ext cx="179280" cy="330120"/>
          </a:xfrm>
          <a:prstGeom prst="ellipse">
            <a:avLst/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Flowchart: Direct Access Storage 9"/>
          <p:cNvSpPr/>
          <p:nvPr/>
        </p:nvSpPr>
        <p:spPr>
          <a:xfrm rot="900000">
            <a:off x="6192720" y="4412880"/>
            <a:ext cx="1430280" cy="765360"/>
          </a:xfrm>
          <a:prstGeom prst="flowChartMagneticDrum">
            <a:avLst/>
          </a:prstGeom>
          <a:solidFill>
            <a:srgbClr val="e6b9b8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Oval 10"/>
          <p:cNvSpPr/>
          <p:nvPr/>
        </p:nvSpPr>
        <p:spPr>
          <a:xfrm rot="900000">
            <a:off x="7270560" y="4750920"/>
            <a:ext cx="179280" cy="330480"/>
          </a:xfrm>
          <a:prstGeom prst="ellipse">
            <a:avLst/>
          </a:prstGeom>
          <a:solidFill>
            <a:srgbClr val="953735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Otrreizējo izejvielu izmant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4968720" cy="47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ET pārslas galvenokārt izmanto poliestera šķiedras, kā arī jaunu PET pudeļu ražošana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otrreizējās HDPE un LDPE plastmasas gatavo gan jaunu plēvi, gan sadzīvē noderīgus plastmasas izstrādājum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http://st.houzz.com/simgs/7d9124c80f8cc43a_4-0178/contemporary-dining-bowls.jpg"/>
          <p:cNvPicPr/>
          <p:nvPr/>
        </p:nvPicPr>
        <p:blipFill>
          <a:blip r:embed="rId1"/>
          <a:stretch/>
        </p:blipFill>
        <p:spPr>
          <a:xfrm>
            <a:off x="5267160" y="2081160"/>
            <a:ext cx="346716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8T10:30:24Z</dcterms:created>
  <dc:creator>User</dc:creator>
  <dc:description/>
  <dc:language>en-US</dc:language>
  <cp:lastModifiedBy>Admin</cp:lastModifiedBy>
  <dcterms:modified xsi:type="dcterms:W3CDTF">2015-04-17T11:30:03Z</dcterms:modified>
  <cp:revision>41</cp:revision>
  <dc:subject/>
  <dc:title>Papīra pārstrāde</dc:title>
</cp:coreProperties>
</file>