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0594-6A52-4D17-BAEB-94D7C306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4CCB-2BBE-475E-A82D-4D75065C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41F4-5A9C-4F20-BCDF-891A53371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D10C-1483-42CE-A9BB-E307C361C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A6E5-E572-4BC6-A340-63F81CD6E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E5CF-304E-41EB-B71F-72DDA6D6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C775-9453-4AF1-94DA-44A29C71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B651-31D2-4900-9EB6-FB71D84D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B882-E3FE-4BD4-AEB2-D147C72B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F87A-BE1C-4D2E-94FD-A3F6D075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27D0-D494-41A5-9968-52FC5500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996F-A25C-4B2F-9913-18807B74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E74A-6276-42B2-B076-DA90D6B8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3A41-51C9-4424-8934-6B99BD22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C11E-F79E-40D2-BCB8-94DD8D0C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36BD-4931-4AE7-BEB5-7232FEDF1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1CDA-888A-4435-8AAE-8A1AFDFD2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65D9-816B-41DE-8E0C-9F03FD2B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544E-6536-43F5-B9C6-ACAF120D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0617-27E9-47B4-9434-CD5EC6FA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C483-5833-4232-8893-D504ABA9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D374-55CA-48E2-9CF8-03D29C48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FDEC-FCB3-4ABA-8AD3-581663A8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5EDC-FB57-44CA-8F17-D43FFAFD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021D-A511-45AA-9EBA-06006789BAE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vilani.lv/images/vilanu-novads.png"/>
          <p:cNvPicPr/>
          <p:nvPr/>
        </p:nvPicPr>
        <p:blipFill>
          <a:blip r:embed="rId2"/>
          <a:stretch/>
        </p:blipFill>
        <p:spPr>
          <a:xfrm>
            <a:off x="8101080" y="189000"/>
            <a:ext cx="738000" cy="868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F6DF-2316-4EDE-8272-D802CF7FF337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vilan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Viļān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vilanunovads.l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19280" y="474840"/>
            <a:ext cx="5838840" cy="5878440"/>
          </a:xfrm>
          <a:prstGeom prst="rect">
            <a:avLst/>
          </a:prstGeom>
          <a:ln w="0">
            <a:noFill/>
          </a:ln>
        </p:spPr>
      </p:pic>
      <p:sp>
        <p:nvSpPr>
          <p:cNvPr id="88" name="Left Arrow 4"/>
          <p:cNvSpPr/>
          <p:nvPr/>
        </p:nvSpPr>
        <p:spPr>
          <a:xfrm rot="19945800">
            <a:off x="347400" y="3485880"/>
            <a:ext cx="1368360" cy="7524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00b050"/>
          </a:solidFill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gales augstienes rietumu un ziemeļrietumu nogāz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strumlatvijas zemien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Kultūras pieminekļ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vilani.lv/images/news/201401/horizontal/tsmtv9584s.jpg?v=1455621670"/>
          <p:cNvPicPr/>
          <p:nvPr/>
        </p:nvPicPr>
        <p:blipFill>
          <a:blip r:embed="rId1"/>
          <a:stretch/>
        </p:blipFill>
        <p:spPr>
          <a:xfrm>
            <a:off x="1187280" y="4292640"/>
            <a:ext cx="6553440" cy="2286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3413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ā atrodas vienpadsmit valsts aizsargājamie kultūras pieminekļ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ieci arhitektū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eši arheoloģij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eviņi no tiem ir valsts nozīm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s://upload.wikimedia.org/wikipedia/lv/thumb/f/fc/Malta_pie_Vi%C4%BC%C4%81niem.jpg/260px-Malta_pie_Vi%C4%BC%C4%81niem.jpg"/>
          <p:cNvPicPr/>
          <p:nvPr/>
        </p:nvPicPr>
        <p:blipFill>
          <a:blip r:embed="rId1"/>
          <a:stretch/>
        </p:blipFill>
        <p:spPr>
          <a:xfrm>
            <a:off x="4211640" y="1700280"/>
            <a:ext cx="4321080" cy="3241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U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9640" y="1628640"/>
            <a:ext cx="8136000" cy="3993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ltas u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lm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iskā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itas mazās upītes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Kaževa, Varakļānu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trauts, Notra,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perga, Lauza, u.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Ezeru izvietoju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0-26T09:11:09Z</dcterms:modified>
  <cp:revision>12</cp:revision>
  <dc:subject/>
  <dc:title>Viļānu novads</dc:title>
</cp:coreProperties>
</file>