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A5B5-71A4-4BA9-A69D-4FA1EE3E3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DB02-8B1E-4BB7-96F3-8E232AED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4795-4F86-4572-8533-DDE4363EF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491A-B475-4462-A6BD-8C6A98880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4D99-DCCD-4BDD-B457-E3798DBF3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E8A3-58A8-42C8-8032-95FD598E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E44F-E64A-4D02-835F-5B1C13BC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7FA2-F61E-4A22-A817-D535080C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CBB4-D4CF-4E89-B28F-9F7F1D10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61F7-7A2B-4E2F-BF1F-21227D71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4F43-8B42-4463-B510-A066E1C9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E0FF-31E3-427D-8956-247F422E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15F9-4F95-49BB-B30A-87A2B405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E235-FA59-4FC7-BDDD-B41A0C11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FE48-6486-40A0-A730-91473D49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49CE-D530-415E-A616-29B6F2EEE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4430-FACB-4651-AB63-CCD13D9FA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A09B-0CB5-46A3-BF5A-EADD13CE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41AC-C967-4EB6-9404-5DE7D1DB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BDAC-4BA6-4629-AA5A-A0270EC9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A71B-9F75-439F-8128-0DAC401D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DF88-40C0-48D0-A7DA-D15FEE9B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2D86-69AA-4A35-8606-F33E37B5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F59B-C557-4C8A-B40A-D4DEAB5E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E353-E70E-4F22-BAF3-2BA25176A687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plavinunovads.lv/sites/default/files/styles/large/public/images/logo_0.png?itok=yxl-tckW"/>
          <p:cNvPicPr/>
          <p:nvPr/>
        </p:nvPicPr>
        <p:blipFill>
          <a:blip r:embed="rId2"/>
          <a:stretch/>
        </p:blipFill>
        <p:spPr>
          <a:xfrm>
            <a:off x="8101080" y="260280"/>
            <a:ext cx="676080" cy="83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3040-6D76-4BC7-B367-94DFBEACC97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lavin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Pļaviņ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lavinunovads.lv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3" descr=""/>
          <p:cNvPicPr/>
          <p:nvPr/>
        </p:nvPicPr>
        <p:blipFill>
          <a:blip r:embed="rId1"/>
          <a:stretch/>
        </p:blipFill>
        <p:spPr>
          <a:xfrm>
            <a:off x="390600" y="963720"/>
            <a:ext cx="824076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413400" cy="5918040"/>
          </a:xfrm>
          <a:prstGeom prst="rect">
            <a:avLst/>
          </a:prstGeom>
          <a:ln w="0">
            <a:noFill/>
          </a:ln>
        </p:spPr>
      </p:pic>
      <p:sp>
        <p:nvSpPr>
          <p:cNvPr id="87" name="Right Arrow 4"/>
          <p:cNvSpPr/>
          <p:nvPr/>
        </p:nvSpPr>
        <p:spPr>
          <a:xfrm rot="19883400">
            <a:off x="7092720" y="1063440"/>
            <a:ext cx="1760400" cy="752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dzemes dienv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ugavas labajā krast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enviet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i.vietas.lv/userfiles/image_gal/big/17/image-17617.jpg"/>
          <p:cNvPicPr/>
          <p:nvPr/>
        </p:nvPicPr>
        <p:blipFill>
          <a:blip r:embed="rId1"/>
          <a:srcRect l="8359" t="0" r="9757" b="0"/>
          <a:stretch/>
        </p:blipFill>
        <p:spPr>
          <a:xfrm>
            <a:off x="4643280" y="1773360"/>
            <a:ext cx="3889440" cy="26748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684360" y="1700280"/>
            <a:ext cx="7127640" cy="3140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Oliņkalna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okstenes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ēlpils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ļaviņu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raudavu senkapi ar krustakme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www.upesoga.lv/_mm/rimg/201508/608/608_55d6dcea00b2d_513.jpg"/>
          <p:cNvPicPr/>
          <p:nvPr/>
        </p:nvPicPr>
        <p:blipFill>
          <a:blip r:embed="rId1"/>
          <a:stretch/>
        </p:blipFill>
        <p:spPr>
          <a:xfrm>
            <a:off x="3635280" y="2349360"/>
            <a:ext cx="5257800" cy="3279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Ūdeņu teritorij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5122800" cy="452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ļaviņu ūdenskrātu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esetas 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iviekstes 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Odze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paļai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īdace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Ūdeņ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1-03T11:11:33Z</dcterms:modified>
  <cp:revision>13</cp:revision>
  <dc:subject/>
  <dc:title>Viļānu novads</dc:title>
</cp:coreProperties>
</file>