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77C5-0054-4724-9349-5B632906A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5B8D-60E8-4D4D-BD51-D78187346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76A8-EDE7-4146-9C60-62E411775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A7F5-DB09-4273-A1F1-D9BDB56FD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61B05-377D-4A8B-A4A0-306232C52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D8C09-7E9D-44D9-94A9-B2D2AEFDC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D1677-6729-4D1F-BA06-4B4D5F3A6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13DB9-3AEC-4A25-AF36-E711A1AEA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91E9D-835B-4EC3-8CDC-CBA21A01C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B9E42-561A-45FC-848E-5A2CB86E4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0A112-6EE4-49D4-ABE3-5144ED9C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9AEE-0519-4AB0-ADE4-7BE6093A7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951CC-A769-434D-AEFC-CDBED03C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6103E-BDD8-4756-8B32-17172584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324F6-4A48-4F9B-95A4-653612C1D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523C1-04BB-45E8-9C34-C47D79157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3003E-6E17-43D7-AC5B-67FDE4AD3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9624-3C3F-4B68-8F23-3B6E048A7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F464-977A-4420-8502-0ED94D906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7C20-D735-4266-9BF4-807576EDC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3182-5532-4CA0-AD0A-FB0DDC8B4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3CA6-1BAF-4574-A71E-C9C2A348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EF8E-8D93-40E4-AE99-C09B4826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CD82-320A-4798-A0CC-9A126962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E550E-A000-438D-BD7A-A25FACE0C6AD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://www.vilani.lv/images/vilanu-novads.png"/>
          <p:cNvPicPr/>
          <p:nvPr/>
        </p:nvPicPr>
        <p:blipFill>
          <a:blip r:embed="rId2"/>
          <a:stretch/>
        </p:blipFill>
        <p:spPr>
          <a:xfrm>
            <a:off x="8101080" y="189000"/>
            <a:ext cx="738000" cy="868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B89CB-73EC-4443-B870-BC71E3D3DDBB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vilanunovads.lv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Viļānu nov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vilanunovads.l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"/>
          <p:cNvPicPr/>
          <p:nvPr/>
        </p:nvPicPr>
        <p:blipFill>
          <a:blip r:embed="rId1"/>
          <a:stretch/>
        </p:blipFill>
        <p:spPr>
          <a:xfrm>
            <a:off x="450720" y="1584360"/>
            <a:ext cx="82425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619280" y="474840"/>
            <a:ext cx="5838840" cy="5878440"/>
          </a:xfrm>
          <a:prstGeom prst="rect">
            <a:avLst/>
          </a:prstGeom>
          <a:ln w="0">
            <a:noFill/>
          </a:ln>
        </p:spPr>
      </p:pic>
      <p:sp>
        <p:nvSpPr>
          <p:cNvPr id="88" name="Left Arrow 4"/>
          <p:cNvSpPr/>
          <p:nvPr/>
        </p:nvSpPr>
        <p:spPr>
          <a:xfrm rot="19945800">
            <a:off x="347400" y="3485880"/>
            <a:ext cx="1368360" cy="752400"/>
          </a:xfrm>
          <a:prstGeom prst="leftArrow">
            <a:avLst>
              <a:gd name="adj1" fmla="val 50000"/>
              <a:gd name="adj2" fmla="val 50005"/>
            </a:avLst>
          </a:prstGeom>
          <a:solidFill>
            <a:srgbClr val="00b050"/>
          </a:solidFill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latība km</a:t>
            </a:r>
            <a:r>
              <a:rPr b="0" lang="lv-LV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vada teritorija atrod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atgales augstienes rietumu un ziemeļrietumu nogāz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ustrumlatvijas zemien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Kultūras pieminekļ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http://vilani.lv/images/news/201401/horizontal/tsmtv9584s.jpg?v=1455621670"/>
          <p:cNvPicPr/>
          <p:nvPr/>
        </p:nvPicPr>
        <p:blipFill>
          <a:blip r:embed="rId1"/>
          <a:stretch/>
        </p:blipFill>
        <p:spPr>
          <a:xfrm>
            <a:off x="1187280" y="4292640"/>
            <a:ext cx="6553440" cy="2286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34131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vadā atrodas vienpadsmit valsts aizsargājamie kultūras pieminekļ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ieci arhitektūr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eši arheoloģij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eviņi no tiem ir valsts nozīm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s://upload.wikimedia.org/wikipedia/lv/thumb/f/fc/Malta_pie_Vi%C4%BC%C4%81niem.jpg/260px-Malta_pie_Vi%C4%BC%C4%81niem.jpg"/>
          <p:cNvPicPr/>
          <p:nvPr/>
        </p:nvPicPr>
        <p:blipFill>
          <a:blip r:embed="rId1"/>
          <a:stretch/>
        </p:blipFill>
        <p:spPr>
          <a:xfrm>
            <a:off x="4211640" y="1700280"/>
            <a:ext cx="4321080" cy="32414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U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9640" y="1628640"/>
            <a:ext cx="8136000" cy="39934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ltas u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lm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iskā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citas mazās upītes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(Kaževa, Varakļānu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trauts, Notra,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perga, Lauza, u.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Ezeru izvietoju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1T16:03:58Z</dcterms:created>
  <dc:creator>User</dc:creator>
  <dc:description/>
  <dc:language>en-US</dc:language>
  <cp:lastModifiedBy>User</cp:lastModifiedBy>
  <dcterms:modified xsi:type="dcterms:W3CDTF">2016-10-26T09:11:09Z</dcterms:modified>
  <cp:revision>12</cp:revision>
  <dc:subject/>
  <dc:title>Viļānu novads</dc:title>
</cp:coreProperties>
</file>