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22FD-7075-45C7-B557-49E4A69A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12D1-8700-44A8-AF28-3DC2D5C7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1349-56F5-4654-B647-039B80312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4069-57CD-4CD3-B812-870FE3AA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4470-77ED-4DF4-9845-C998ED613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2826-F316-48BD-9D92-42ABEB26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B31E-7D09-4F3A-AB42-55D219BA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5DFF-D423-4B1A-9FB2-16E8D74E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3A9C-98A3-40E8-AE2A-D31667E4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A068-A025-4853-BC17-441D434D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F3D1-09F4-4C88-BFB2-C9C75CDB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86B2-4897-4B2B-A0CF-7BD52B8D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DE5B-708D-41C7-B18C-EBA9195C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6E35-FC3E-43B4-A72C-0B43104E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834A-DBB1-4E2B-A586-1D85126C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2D58-89B2-4FAE-BA40-028B74639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0A80-B79B-4CCE-BCD3-4D04DAA0A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2B36-3CD2-4271-A753-EC8BC3C6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AFFA-5FDA-4063-BC1C-46AC319E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FC56-E190-48BE-BB1B-60E3E013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DE41-9E3F-4FED-8B37-D2E9314F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9321-3B54-42C8-8C83-41844400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4A90-82BF-49B0-A463-D866DBF5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3792-3BDD-42DF-8812-BBCA63C7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AF19-637B-43DA-9401-8C265BA1A04C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plavinunovads.lv/sites/default/files/styles/large/public/images/logo_0.png?itok=yxl-tckW"/>
          <p:cNvPicPr/>
          <p:nvPr/>
        </p:nvPicPr>
        <p:blipFill>
          <a:blip r:embed="rId2"/>
          <a:stretch/>
        </p:blipFill>
        <p:spPr>
          <a:xfrm>
            <a:off x="8101080" y="260280"/>
            <a:ext cx="676080" cy="83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E265-9BB0-413C-B548-18E711BDF294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lavi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Pļaviņ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lavinunovads.lv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3" descr=""/>
          <p:cNvPicPr/>
          <p:nvPr/>
        </p:nvPicPr>
        <p:blipFill>
          <a:blip r:embed="rId1"/>
          <a:stretch/>
        </p:blipFill>
        <p:spPr>
          <a:xfrm>
            <a:off x="390600" y="963720"/>
            <a:ext cx="824076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413400" cy="5918040"/>
          </a:xfrm>
          <a:prstGeom prst="rect">
            <a:avLst/>
          </a:prstGeom>
          <a:ln w="0">
            <a:noFill/>
          </a:ln>
        </p:spPr>
      </p:pic>
      <p:sp>
        <p:nvSpPr>
          <p:cNvPr id="87" name="Right Arrow 4"/>
          <p:cNvSpPr/>
          <p:nvPr/>
        </p:nvSpPr>
        <p:spPr>
          <a:xfrm rot="19883400">
            <a:off x="7092720" y="1063440"/>
            <a:ext cx="1760400" cy="752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dzemes dienv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ugavas labajā krast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nvie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i.vietas.lv/userfiles/image_gal/big/17/image-17617.jpg"/>
          <p:cNvPicPr/>
          <p:nvPr/>
        </p:nvPicPr>
        <p:blipFill>
          <a:blip r:embed="rId1"/>
          <a:srcRect l="8359" t="0" r="9757" b="0"/>
          <a:stretch/>
        </p:blipFill>
        <p:spPr>
          <a:xfrm>
            <a:off x="4643280" y="1773360"/>
            <a:ext cx="3889440" cy="26748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684360" y="1700280"/>
            <a:ext cx="7127640" cy="3140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Oliņkalna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okstene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ēlpil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ļaviņu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raudavu senkapi ar krustakme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www.upesoga.lv/_mm/rimg/201508/608/608_55d6dcea00b2d_513.jpg"/>
          <p:cNvPicPr/>
          <p:nvPr/>
        </p:nvPicPr>
        <p:blipFill>
          <a:blip r:embed="rId1"/>
          <a:stretch/>
        </p:blipFill>
        <p:spPr>
          <a:xfrm>
            <a:off x="3635280" y="2349360"/>
            <a:ext cx="5257800" cy="3279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u teritorij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51228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ļaviņu ūdenskrātu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eseta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iviekste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dz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paļai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īdac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1:11:33Z</dcterms:modified>
  <cp:revision>13</cp:revision>
  <dc:subject/>
  <dc:title>Viļānu novads</dc:title>
</cp:coreProperties>
</file>