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7E05A-1E7F-496D-BA0B-2A94C3278BE3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Fédération Internationale de Natation, F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6E044-498B-41CD-864A-B97EAA0BD131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tauriņstils, uz muguras, brass, brīvais st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0D64B-6875-497C-AC0B-FBC60951CE3A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garajā basein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B166F-C2FB-4D3E-B95B-75E6964A7FE8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*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B3B9-297C-45AB-8F9A-BE37BBF1D759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1426-0793-4101-927C-C1875BAD7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802E-3135-4C5D-94C2-3CEF5E621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0322-6573-4957-846D-0B81D0A12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0DB8-5FCA-4710-A0F8-28B187A9C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BA69-C7E3-492D-80E4-9CB085DB2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E42D-1335-4971-9B9F-CB120953E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5531-685B-4E8C-9F4E-0E73D423C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F418-31BA-496C-ABDE-1C8FD190B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D796-8C6B-417A-B25E-181C1A867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FA9A-1631-4187-AC83-5048FBD2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87D7-709F-4841-B23D-2929F2F7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D04F-D81C-4881-A65E-67B97B62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A1704-D85F-4750-8BAA-E3124B18C19E}" type="datetime">
              <a:rPr b="0" lang="lv-LV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ACC9F-8FA8-4C36-B58F-10244D130099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b7dee8"/>
                </a:solidFill>
                <a:latin typeface="Calibri"/>
              </a:rPr>
              <a:t>Sporta peld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eldēšanas veid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rauls uz krūtī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rauls uz mugur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auriņsti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Br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435640" y="1413000"/>
            <a:ext cx="271620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eldešanas sporta veid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eldēšana ir ir ūdens sporta veids, ko starptautiski pārvalda Starptautiskā Peldēšanas federācija (), kas dibināta 1908. gad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porta sacensībās peldēšanā uzvar tas, kurš uzstāda labāko lai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acensības baseinos noteik 50-1500 metrus garās distancē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acensiba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acensības peldēšanā notiek četros veidos: brīvajā stilā, uz muguras, brasā un tuariņstil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ompleksajā peldējumā ir noteikta veidu secība (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Brīvajā stilā tiek tiek izmantots visātrākais peldēšanas veids — krauls uz krūtī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acensību vēstū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eldēšana ir ir iekļauta Olimpiskajās spēlē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kopš 1896. gada Atēnu Olimpiskajām spēlēm vīrieši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kopš 1912. gada Stokholmas Olimpiskajām spēlēm sievietē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1890. gada teik rīkots Eiropas čempionā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1973. gada tiek rīkots Pasaules čempionāts (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eldēšana citos sporta veid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odernajā pieccīņā  200 m brīvajā stilā (līdz 2000. gada Olimpiskajām spēlēm distance bija 300 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rialonā  1500 m brīvajā stilā (vidējā jeb Olimpiskā dist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Ūdenspo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0T11:37:20Z</dcterms:created>
  <dc:creator>User</dc:creator>
  <dc:description/>
  <dc:language>en-US</dc:language>
  <cp:lastModifiedBy>User</cp:lastModifiedBy>
  <dcterms:modified xsi:type="dcterms:W3CDTF">2017-04-15T08:45:36Z</dcterms:modified>
  <cp:revision>12</cp:revision>
  <dc:subject/>
  <dc:title>Peldēšanas veidi</dc:title>
</cp:coreProperties>
</file>