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B90A-6F31-4419-BE86-FDA172A99A6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édération Internationale de Natation, F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37F3-281D-4D0A-B125-6508A058D76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auriņstils, uz muguras, brass, brīvais st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B939-B0CA-4D2E-82EC-F5E7839E134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garajā basein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0501-327E-4A3E-9E3B-E125CA366F8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3225-713C-467D-98D3-F89AB87EB78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C9B8-437C-4539-ABB7-B76E2694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6C2-981F-4AED-A551-9F5010F2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7BAE-7046-4296-8BF7-52AA15B5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102E-DB0D-4841-BE96-10482BD0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B835-7148-47FB-8A83-CAA75BD3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0E8-FBE7-4674-B2AF-AA116C13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B4A-D7C7-4AEF-A263-BCDA7052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415-C241-43AB-9943-CB496F81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0555-7F9F-41E1-93A8-E634EE54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3646-8528-4042-9A72-43E5A33C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EFC1-AB33-4ACA-BC18-9F587506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7BA6-6592-488A-AA1F-9DC6BF20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53DD-B9D2-4F79-BF96-2CEC5ADCB716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1F5B-01E5-49F9-B5DC-1E4377594BE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b7dee8"/>
                </a:solidFill>
                <a:latin typeface="Calibri"/>
              </a:rPr>
              <a:t>Sporta peld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s vei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mugu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riņst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6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ešanas sporta ve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ūdens sporta veids, ko starptautiski pārvalda Starptautiskā Peldēšanas federācija (), kas dibināta 1908.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orta sacensībās peldēšanā uzvar tas, kurš uzstāda labāko la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baseinos noteik 50-1500 metrus garās distanc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ib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peldēšanā notiek četros veidos: brīvajā stilā, uz muguras, brasā un tuariņstil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mpleksajā peldējumā ir noteikta veidu secība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īvajā stilā tiek tiek izmantots visātrākais peldēšanas veids — 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ību vēstū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iekļauta Olimpiskajās spēlē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896. gada Atēnu Olimpiskajām spēlēm vīrieš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912. gada Stokholmas Olimpiskajām spēlēm sieviet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890. gada teik rīkots Eiropas čempio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973. gada tiek rīkots Pasaules čempionāts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 citos sporta ve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odernajā pieccīņā  200 m brīvajā stilā (līdz 2000. gada Olimpiskajām spēlēm distance bija 300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ialonā  1500 m brīvajā stilā (vidējā jeb Olimpiskā di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Ūdens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37:20Z</dcterms:created>
  <dc:creator>User</dc:creator>
  <dc:description/>
  <dc:language>en-US</dc:language>
  <cp:lastModifiedBy>User</cp:lastModifiedBy>
  <dcterms:modified xsi:type="dcterms:W3CDTF">2017-04-15T08:45:36Z</dcterms:modified>
  <cp:revision>12</cp:revision>
  <dc:subject/>
  <dc:title>Peldēšanas veidi</dc:title>
</cp:coreProperties>
</file>