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ACDA-F629-4A40-9996-BEFF895C004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Fédération Internationale de Natation, F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6E7D-4F50-4955-BE8D-131DFF82822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tauriņstils, uz muguras, brass, brīvais st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E724-37C4-4091-8CDA-95BD0FC9DEB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garajā basein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6112-EEE9-4885-8F30-EF8B4F1FCDF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*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65CE-6C6F-4AE0-A56A-7A5C50264D5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2158-33FE-4332-9393-AD9D9972E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925D-47FE-4D50-9806-8444D298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B705-6437-4D15-BF39-DD559A44A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2B12-D5DA-477D-9240-4E8290120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ABBB-F09C-4727-9805-CB25D275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1BB1-3F37-4EFF-A81E-197F077E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116E-F9FE-4146-A2F2-AEF56B25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3258-1183-4378-80CE-D4E95BA8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33D3-F6B6-46CC-AB8A-816E8E14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C7E9-571F-4463-9ED9-98AFE142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7CA7-D57C-4AAF-B278-20FB046C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AA2C-FFB0-4459-98F6-8982AE56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06BC-11E7-44EF-B945-4A631E4F4DE9}" type="datetime">
              <a:rPr b="0" lang="lv-LV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1991-F9B7-45B8-B073-C83FF7786C20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b7dee8"/>
                </a:solidFill>
                <a:latin typeface="Calibri"/>
              </a:rPr>
              <a:t>Sporta peld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s veid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mugu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auriņst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435640" y="1413000"/>
            <a:ext cx="27162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ešanas sporta vei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ūdens sporta veids, ko starptautiski pārvalda Starptautiskā Peldēšanas federācija (), kas dibināta 1908. gad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orta sacensībās peldēšanā uzvar tas, kurš uzstāda labāko la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baseinos noteik 50-1500 metrus garās distancē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ib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peldēšanā notiek četros veidos: brīvajā stilā, uz muguras, brasā un tuariņstil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mpleksajā peldējumā ir noteikta veidu secība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īvajā stilā tiek tiek izmantots visātrākais peldēšanas veids — 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ību vēstū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iekļauta Olimpiskajās spēlē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896. gada Atēnu Olimpiskajām spēlēm vīrieš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912. gada Stokholmas Olimpiskajām spēlēm sieviet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890. gada teik rīkots Eiropas čempio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973. gada tiek rīkots Pasaules čempionāts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 citos sporta vei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odernajā pieccīņā  200 m brīvajā stilā (līdz 2000. gada Olimpiskajām spēlēm distance bija 300 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rialonā  1500 m brīvajā stilā (vidējā jeb Olimpiskā dist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Ūdenspo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0T11:37:20Z</dcterms:created>
  <dc:creator>User</dc:creator>
  <dc:description/>
  <dc:language>en-US</dc:language>
  <cp:lastModifiedBy>User</cp:lastModifiedBy>
  <dcterms:modified xsi:type="dcterms:W3CDTF">2017-04-15T08:45:36Z</dcterms:modified>
  <cp:revision>12</cp:revision>
  <dc:subject/>
  <dc:title>Peldēšanas veidi</dc:title>
</cp:coreProperties>
</file>