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1828-1991-476C-85D0-AACA3241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4C3-BCB8-410E-963F-63D1B0C7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5F6F-82B5-4DE9-8C25-698CA5E8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2737-5871-45BE-8A16-F056CAF7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D5BD-950D-4581-962F-749CE6D6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CFC-7958-4F40-987A-F11CC85D5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B248-F656-4F7A-8945-743D3B0B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444C-2116-4E09-8F2B-88D5FB88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26FE-3C2F-4000-A715-8C499435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2AC-00A5-4B4D-9573-C36377EB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C58-0CDF-4425-92AE-04D033E1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9A7E-7F24-4D34-8F33-19D0FCD9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C8F3-0DC9-424C-A38A-A65785A8A0D0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lmd.lv/par-latvijas-meziem" TargetMode="External"/><Relationship Id="rId2" Type="http://schemas.openxmlformats.org/officeDocument/2006/relationships/hyperlink" Target="http://www.lmd.lv/par-latvijas-mezie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5040" y="2830320"/>
            <a:ext cx="6634080" cy="998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6000" spc="-1" strike="noStrike">
                <a:solidFill>
                  <a:srgbClr val="000000"/>
                </a:solidFill>
                <a:latin typeface="Calibri Light"/>
              </a:rPr>
              <a:t>Koki Latvijas mežo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0880" y="1100160"/>
            <a:ext cx="3130560" cy="285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Pried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6599160" y="189864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7688160" y="3503520"/>
            <a:ext cx="609840" cy="627120"/>
          </a:xfrm>
          <a:prstGeom prst="rect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466640" y="2090520"/>
            <a:ext cx="5033880" cy="379404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Sila priede gauži raud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umeliņis saknes bri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a priedites pašas vain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am aug ceļa maliņâ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8367840" y="966960"/>
            <a:ext cx="14000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Pried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38080" y="1825200"/>
            <a:ext cx="3679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ās un vīrišķās ziedkop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Čiekurs pēc sēklu izbiršan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5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729560" y="844560"/>
            <a:ext cx="2800440" cy="34196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8105040" y="102708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5572080" y="3040200"/>
            <a:ext cx="1104840" cy="1466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5109480" y="298944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3"/>
          <a:stretch/>
        </p:blipFill>
        <p:spPr>
          <a:xfrm>
            <a:off x="6727680" y="4811760"/>
            <a:ext cx="762120" cy="68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6154200" y="4975200"/>
            <a:ext cx="45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949320" y="2227320"/>
            <a:ext cx="10276920" cy="3326400"/>
            <a:chOff x="949320" y="2227320"/>
            <a:chExt cx="10276920" cy="3326400"/>
          </a:xfrm>
        </p:grpSpPr>
        <p:cxnSp>
          <p:nvCxnSpPr>
            <p:cNvPr id="90" name="_s14351"/>
            <p:cNvCxnSpPr>
              <a:stCxn id="91" idx="0"/>
              <a:endCxn id="92" idx="2"/>
            </p:cNvCxnSpPr>
            <p:nvPr/>
          </p:nvCxnSpPr>
          <p:spPr>
            <a:xfrm flipV="1" rot="16200000">
              <a:off x="7755120" y="1891080"/>
              <a:ext cx="665640" cy="399888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14349"/>
            <p:cNvCxnSpPr>
              <a:stCxn id="94" idx="0"/>
              <a:endCxn id="92" idx="2"/>
            </p:cNvCxnSpPr>
            <p:nvPr/>
          </p:nvCxnSpPr>
          <p:spPr>
            <a:xfrm flipV="1" rot="16200000">
              <a:off x="6422400" y="3223800"/>
              <a:ext cx="665640" cy="133344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14348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5090040" y="3224520"/>
              <a:ext cx="665640" cy="133272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7"/>
            <p:cNvCxnSpPr>
              <a:stCxn id="98" idx="0"/>
              <a:endCxn id="92" idx="2"/>
            </p:cNvCxnSpPr>
            <p:nvPr/>
          </p:nvCxnSpPr>
          <p:spPr>
            <a:xfrm flipH="1" flipV="1" rot="5400000">
              <a:off x="3757320" y="1891800"/>
              <a:ext cx="665640" cy="3998160"/>
            </a:xfrm>
            <a:prstGeom prst="bentConnector3">
              <a:avLst>
                <a:gd name="adj1" fmla="val 207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14343"/>
            <p:cNvSpPr/>
            <p:nvPr/>
          </p:nvSpPr>
          <p:spPr>
            <a:xfrm>
              <a:off x="4944240" y="222732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_s14344"/>
            <p:cNvSpPr/>
            <p:nvPr/>
          </p:nvSpPr>
          <p:spPr>
            <a:xfrm>
              <a:off x="94932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_s14345"/>
            <p:cNvSpPr/>
            <p:nvPr/>
          </p:nvSpPr>
          <p:spPr>
            <a:xfrm>
              <a:off x="361440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Lap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_s14346"/>
            <p:cNvSpPr/>
            <p:nvPr/>
          </p:nvSpPr>
          <p:spPr>
            <a:xfrm>
              <a:off x="6279840" y="4223160"/>
              <a:ext cx="228420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pried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_s14350"/>
            <p:cNvSpPr/>
            <p:nvPr/>
          </p:nvSpPr>
          <p:spPr>
            <a:xfrm>
              <a:off x="8944920" y="4223160"/>
              <a:ext cx="2281320" cy="133056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edru pried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1828800"/>
            <a:ext cx="3213000" cy="96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Alksnis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8534520" y="1528920"/>
            <a:ext cx="785520" cy="7840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7027920" y="2798640"/>
            <a:ext cx="785880" cy="7844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snis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Mežâ auga duj' kociņi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s lieti nederej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der alksnis lūku plēs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e ērcašas slotu griez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7710480" y="1095480"/>
            <a:ext cx="29433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Alkšņu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22200" y="2017440"/>
            <a:ext cx="3144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ākamā gada sievišķo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ās ziedu spurdz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ugļkopa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5073480" y="1450800"/>
            <a:ext cx="2276640" cy="38768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7"/>
          <p:cNvSpPr/>
          <p:nvPr/>
        </p:nvSpPr>
        <p:spPr>
          <a:xfrm>
            <a:off x="5189040" y="20178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8747280" y="1690560"/>
            <a:ext cx="1742760" cy="26193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8170920" y="176688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3"/>
          <a:stretch/>
        </p:blipFill>
        <p:spPr>
          <a:xfrm>
            <a:off x="8577360" y="5022720"/>
            <a:ext cx="2324160" cy="8193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1"/>
          <p:cNvSpPr/>
          <p:nvPr/>
        </p:nvSpPr>
        <p:spPr>
          <a:xfrm>
            <a:off x="8058240" y="520236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725560" y="2154240"/>
            <a:ext cx="5485320" cy="2742480"/>
            <a:chOff x="2725560" y="2154240"/>
            <a:chExt cx="5485320" cy="2742480"/>
          </a:xfrm>
        </p:grpSpPr>
        <p:cxnSp>
          <p:nvCxnSpPr>
            <p:cNvPr id="115" name="_s18443"/>
            <p:cNvCxnSpPr>
              <a:stCxn id="116" idx="0"/>
              <a:endCxn id="117" idx="2"/>
            </p:cNvCxnSpPr>
            <p:nvPr/>
          </p:nvCxnSpPr>
          <p:spPr>
            <a:xfrm flipV="1">
              <a:off x="5467680" y="3250440"/>
              <a:ext cx="6120" cy="54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18439"/>
            <p:cNvSpPr/>
            <p:nvPr/>
          </p:nvSpPr>
          <p:spPr>
            <a:xfrm>
              <a:off x="2725560" y="215424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šņa grup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_s18440"/>
            <p:cNvSpPr/>
            <p:nvPr/>
          </p:nvSpPr>
          <p:spPr>
            <a:xfrm>
              <a:off x="2725560" y="3799800"/>
              <a:ext cx="5485320" cy="10969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alibri"/>
                </a:rPr>
                <a:t>Baltalksn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Content Placeholder 14"/>
          <p:cNvGraphicFramePr/>
          <p:nvPr/>
        </p:nvGraphicFramePr>
        <p:xfrm>
          <a:off x="531720" y="595440"/>
          <a:ext cx="10617120" cy="565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Content Placeholder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95440"/>
                    <a:ext cx="10617120" cy="56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</a:t>
            </a:r>
            <a:r>
              <a:rPr b="0" lang="lv-LV" sz="2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lmd.lv/par-latvijas-mez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://www.dainuskapis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atvijasdaba.lv/aug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csb.gov.lv/lv/statistika/db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alibri"/>
              </a:rPr>
              <a:t>https://www.letonika.lv/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www.lvm.l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s://lv.wikipedia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http://www.la.lv/plavu-vieta-baltalksni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ēc Valsts meža dienesta datiem meža zemju platības ir 50,3% no valsts teritorijas kopējo platīb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i Latvijā aizņem 2 965 118 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ežu sadalījums pēc piederīb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lstij piederošais mežs 1 489 523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ārējiem īpašniekiem piederošais ir 1 475 595 ha platīb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ksnes pieaugums, kas katru gadu veidojas, kokiem augot, ir 16,5 milj. m</a:t>
            </a:r>
            <a:r>
              <a:rPr b="0" lang="lv-LV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k gadu zināms daudzums koksnes tiek nocirs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eicot izaugušās koksnes ražas ievākšanu galvenajā cirt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ērtot kokus kopšanas un sanitārajās cirtēs paliekošās mežaudzes stāvokļa uzlabo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Lielākajai daļai mežaudžu valdošās koku sugas ir skuju kok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kuju koki aizņem 55% no visu audžu platībā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iede – 37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gle – 18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zplatītākā lapu koku suga ir bērzs – 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Koku sugas mežaudzē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Content Placeholder 5"/>
          <p:cNvGraphicFramePr/>
          <p:nvPr/>
        </p:nvGraphicFramePr>
        <p:xfrm>
          <a:off x="787320" y="1774800"/>
          <a:ext cx="10617120" cy="44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Content Placeholder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774800"/>
                    <a:ext cx="1061712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1960" y="1709280"/>
            <a:ext cx="2286000" cy="285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6000" spc="-1" strike="noStrike">
                <a:solidFill>
                  <a:srgbClr val="000000"/>
                </a:solidFill>
                <a:latin typeface="Calibri Light"/>
              </a:rPr>
              <a:t>Eg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Rectangle 25"/>
          <p:cNvSpPr/>
          <p:nvPr/>
        </p:nvSpPr>
        <p:spPr>
          <a:xfrm>
            <a:off x="5430960" y="3824280"/>
            <a:ext cx="738000" cy="73836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6"/>
          <p:cNvSpPr/>
          <p:nvPr/>
        </p:nvSpPr>
        <p:spPr>
          <a:xfrm>
            <a:off x="7232760" y="3135240"/>
            <a:ext cx="738000" cy="739800"/>
          </a:xfrm>
          <a:prstGeom prst="rect">
            <a:avLst/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031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 tautas folklor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466640" y="2090520"/>
            <a:ext cx="5033880" cy="3562200"/>
          </a:xfrm>
          <a:prstGeom prst="rect">
            <a:avLst/>
          </a:prstGeom>
          <a:solidFill>
            <a:srgbClr val="c5e0b4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evienami tà nebij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Kà vàlodzes bērniņa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Cik vējiņis eglê pūta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Tik eglite šūpojà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8920" algn="r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Times New Roman"/>
                <a:ea typeface="Verdana"/>
              </a:rPr>
              <a:t>Nr.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8415360" y="966960"/>
            <a:ext cx="12193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825200"/>
            <a:ext cx="3360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iev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īrišķie čieku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4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ogatavojies čiekurs un sēkl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Egles vairošanā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097600" y="1481040"/>
            <a:ext cx="2695320" cy="19432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369040" y="164160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8836200" y="2816280"/>
            <a:ext cx="2428560" cy="1181160"/>
          </a:xfrm>
          <a:prstGeom prst="rect">
            <a:avLst/>
          </a:prstGeom>
          <a:ln w="0">
            <a:noFill/>
          </a:ln>
        </p:spPr>
      </p:pic>
      <p:sp>
        <p:nvSpPr>
          <p:cNvPr id="62" name="TextBox 10"/>
          <p:cNvSpPr/>
          <p:nvPr/>
        </p:nvSpPr>
        <p:spPr>
          <a:xfrm>
            <a:off x="9066240" y="22892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3"/>
          <a:stretch/>
        </p:blipFill>
        <p:spPr>
          <a:xfrm>
            <a:off x="5208480" y="3948120"/>
            <a:ext cx="3524400" cy="2228760"/>
          </a:xfrm>
          <a:prstGeom prst="rect">
            <a:avLst/>
          </a:prstGeom>
          <a:ln w="0">
            <a:noFill/>
          </a:ln>
        </p:spPr>
      </p:pic>
      <p:sp>
        <p:nvSpPr>
          <p:cNvPr id="64" name="TextBox 12"/>
          <p:cNvSpPr/>
          <p:nvPr/>
        </p:nvSpPr>
        <p:spPr>
          <a:xfrm>
            <a:off x="4938120" y="4132440"/>
            <a:ext cx="4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 Light"/>
              </a:rPr>
              <a:t>Sugu grupējumi mežsaimniecībā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74640" y="2049480"/>
            <a:ext cx="8619480" cy="4308480"/>
            <a:chOff x="1574640" y="2049480"/>
            <a:chExt cx="8619480" cy="4308480"/>
          </a:xfrm>
        </p:grpSpPr>
        <p:cxnSp>
          <p:nvCxnSpPr>
            <p:cNvPr id="67" name="_s10253"/>
            <p:cNvCxnSpPr>
              <a:stCxn id="68" idx="0"/>
              <a:endCxn id="69" idx="2"/>
            </p:cNvCxnSpPr>
            <p:nvPr/>
          </p:nvCxnSpPr>
          <p:spPr>
            <a:xfrm flipV="1" rot="16200000">
              <a:off x="6961680" y="2694240"/>
              <a:ext cx="862200" cy="301752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0252"/>
            <p:cNvCxnSpPr>
              <a:stCxn id="71" idx="0"/>
              <a:endCxn id="69" idx="2"/>
            </p:cNvCxnSpPr>
            <p:nvPr/>
          </p:nvCxnSpPr>
          <p:spPr>
            <a:xfrm flipV="1">
              <a:off x="5884200" y="3772080"/>
              <a:ext cx="3240" cy="86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0251"/>
            <p:cNvCxnSpPr>
              <a:stCxn id="73" idx="0"/>
              <a:endCxn id="69" idx="2"/>
            </p:cNvCxnSpPr>
            <p:nvPr/>
          </p:nvCxnSpPr>
          <p:spPr>
            <a:xfrm flipH="1" flipV="1" rot="5400000">
              <a:off x="3946320" y="2696040"/>
              <a:ext cx="862200" cy="3014640"/>
            </a:xfrm>
            <a:prstGeom prst="bentConnector3">
              <a:avLst>
                <a:gd name="adj1" fmla="val 208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9" name="_s10247"/>
            <p:cNvSpPr/>
            <p:nvPr/>
          </p:nvSpPr>
          <p:spPr>
            <a:xfrm>
              <a:off x="4591440" y="204948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s grup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_s10248"/>
            <p:cNvSpPr/>
            <p:nvPr/>
          </p:nvSpPr>
          <p:spPr>
            <a:xfrm>
              <a:off x="15746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_s10249"/>
            <p:cNvSpPr/>
            <p:nvPr/>
          </p:nvSpPr>
          <p:spPr>
            <a:xfrm>
              <a:off x="45914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Citas eg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_s10250"/>
            <p:cNvSpPr/>
            <p:nvPr/>
          </p:nvSpPr>
          <p:spPr>
            <a:xfrm>
              <a:off x="7608240" y="4634640"/>
              <a:ext cx="2585880" cy="1723320"/>
            </a:xfrm>
            <a:prstGeom prst="roundRect">
              <a:avLst>
                <a:gd name="adj" fmla="val 16667"/>
              </a:avLst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Balteg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2T09:22:32Z</dcterms:created>
  <dc:creator>Windows User</dc:creator>
  <dc:description/>
  <dc:language>en-US</dc:language>
  <cp:lastModifiedBy>VISC</cp:lastModifiedBy>
  <dcterms:modified xsi:type="dcterms:W3CDTF">2019-05-30T13:55:55Z</dcterms:modified>
  <cp:revision>70</cp:revision>
  <dc:subject/>
  <dc:title>PowerPoint Presentation</dc:title>
</cp:coreProperties>
</file>