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B0B17-4E21-43CC-8B7A-DB8AD17AC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846A4-8740-4F44-9B32-8FD8A16BE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165C8-75CF-42CA-BA74-23E9BE45B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827460-3E73-4390-866E-34A53A7BF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B137B-02F5-4B0F-BE23-0B1E24639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C7F51-F44F-4346-8457-262017311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9049E-1438-4B9F-B4B0-9E03AE261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1DCF1-14BC-4B13-98D9-C35F42B7A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E7434-76F9-4E9D-87F2-2E683C4C0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272E7-BEE0-43AB-9FAA-1A35879F5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74CE9-3F61-4F11-84DD-8ED0BC793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471A4-ABDA-495A-B93C-241E1E20AE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A0842-86D3-4322-AA98-4466F2E838D5}" type="slidenum">
              <a:rPr b="0" lang="lv-LV"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6000" spc="-1" strike="noStrike">
                <a:solidFill>
                  <a:srgbClr val="000000"/>
                </a:solidFill>
                <a:latin typeface="Calibri Light"/>
              </a:rPr>
              <a:t>Koku sugu raksturojumi </a:t>
            </a:r>
            <a:endParaRPr b="0" lang="en-US" sz="6000" spc="-1" strike="noStrike">
              <a:solidFill>
                <a:srgbClr val="000000"/>
              </a:solidFill>
              <a:latin typeface="Calibri Light"/>
            </a:endParaRPr>
          </a:p>
        </p:txBody>
      </p:sp>
      <p:sp>
        <p:nvSpPr>
          <p:cNvPr id="42"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2400" spc="-1" strike="noStrike">
              <a:solidFill>
                <a:srgbClr val="000000"/>
              </a:solidFill>
              <a:latin typeface="Calibri"/>
            </a:endParaRPr>
          </a:p>
        </p:txBody>
      </p:sp>
      <p:pic>
        <p:nvPicPr>
          <p:cNvPr id="43" name="Picture 5"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Parastā egle (</a:t>
            </a:r>
            <a:r>
              <a:rPr b="0" i="1" lang="la-VA" sz="4400" spc="-1" strike="noStrike">
                <a:solidFill>
                  <a:srgbClr val="000000"/>
                </a:solidFill>
                <a:latin typeface="Calibri Light"/>
              </a:rPr>
              <a:t>Picea abies</a:t>
            </a:r>
            <a:r>
              <a:rPr b="0"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5"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Mūžzaļš, liels (līdz 45 m augsts) priežu dzimtas koks, kas sasniedz līdz 300 gadu vecumu. Vainags slaids, konusveidīgs. Sakņu sistēma sekla. Miza pelēka, sīkzvīņaini atlobījusies. Skujas tumši zaļas, īsas (ga 2-3 cm), uz zariem blīvi. Skujas plēvjainais kātiņš, skujai nobirstot, paliek pie zara. Dzeltenīgie līdz spilgti sarkanie vīrišķie "ziedi" (skujkokiem nav ziedu šī jēdziena tradicionālajā izpratnē!) atrodas uz iepriekšējā gada dzinumiem blīvos sakopojumos (strobilos). Sievišķie "ziedi" iepriekšējā gada dzinumu galos. Sievišķajam "ziedu" sastatam nogatavojoties veidojas raksturīgs cilindrisks čiekurs (ga 7-15 cm). "Zied" maijā, jūnijā. Sēklas no čiekura izbirst nākamajā pavasa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opas mērenā klimata joslā un kalnu apvidos izplatīta suga.</a:t>
            </a:r>
            <a:br>
              <a:rPr sz="1500"/>
            </a:br>
            <a:br>
              <a:rPr sz="1500"/>
            </a:br>
            <a:r>
              <a:rPr b="0" lang="lv-LV" sz="1500" spc="-1" strike="noStrike">
                <a:solidFill>
                  <a:srgbClr val="000000"/>
                </a:solidFill>
                <a:latin typeface="Calibri"/>
              </a:rPr>
              <a:t>Latvijā ļoti bieži visā teritorijā. Latvija pieder pie egles areāla zemienes daļas, kas ir nodalīta no Viduseiropas kalnaino apvidu daļa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Tīraudzēs vai mistraudzēs sausieņu mežos mēreni auglīgās augsnēs, kā arī mitrās, galvenokārt minerālaugsnēs. Veido aptuveni vienu piektdaļu Latvijas mežu kopplatības. Boreālo skujkoku mežu klases (Cl. Vaccinio-Piceetea) augu sabiedrību neiztrūkstoša sug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Rūpnieciski nozīmīgs koks. Dekoratīvās formas plaši izmanto apstādījumo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46"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Calibri Light"/>
              </a:rPr>
              <a:t>Parastā priede (</a:t>
            </a:r>
            <a:r>
              <a:rPr b="0" i="1" lang="lv-LV" sz="4400" spc="-1" strike="noStrike">
                <a:solidFill>
                  <a:srgbClr val="000000"/>
                </a:solidFill>
                <a:latin typeface="Calibri Light"/>
              </a:rPr>
              <a:t>Pinus sylvestris</a:t>
            </a:r>
            <a:r>
              <a:rPr b="0" lang="lv-LV" sz="4400" spc="-1" strike="noStrike">
                <a:solidFill>
                  <a:srgbClr val="000000"/>
                </a:solidFill>
                <a:latin typeface="Calibri Light"/>
              </a:rPr>
              <a:t> L</a:t>
            </a:r>
            <a:r>
              <a:rPr b="1"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8"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prakst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iels (ga 5-30 m, retāk līdz 45 m) priežu dzimtas koks. Vainaga forma un zarojums variē atkarībā no augšanas atklātā vietā vai mežā. Miza brūna, krevaina. Skujas (ga 4-8 cm) pa 2 īsvasas galā. Pumpuri sveķaini, skujas ar sveķu ailēm. Čiekurs (sievišķā ziedkopa) ieapaļš, pirms apputeksnēšanas iesārts, tad zaļš, blīvs. Nogatavojoties sēklām, čiekurs pelēkbrūns (Ø ap 5 cm), čiekurzvīņas atliecas. Sēklas ar plēvjainu spārnu. Putekšņu nesēji (vīrišķā ziedkopa) ovāli, dzelteni, atrodas zaru galos. Čiekuri ienākas otrajā gadā pēc apputeksnēšanā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Izplatīb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Diezgan plaši Eirāz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atvijā ļoti bieži visā teritor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Biotopi:</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ug tīraudzēs un mistrojumā. Galvenā koku suga Latvijas mežos (ap 40% mežu kopplatības). Valdošā suga silā, lānā, mētrājā, slapjajā mētrājā, grīnī un purvājā. Daudzu boreālo skujkoku mežu klases (Cl. Vaccinio-Piceetea, All. Dicrano-Pinion) augu sabiedrību noteicošā sug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Īpašas norāde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Rūpnieciski nozīmīgs koks. </a:t>
            </a:r>
            <a:endParaRPr b="0" lang="en-US" sz="1800" spc="-1" strike="noStrike">
              <a:solidFill>
                <a:srgbClr val="000000"/>
              </a:solidFill>
              <a:latin typeface="Calibri"/>
            </a:endParaRPr>
          </a:p>
        </p:txBody>
      </p:sp>
      <p:pic>
        <p:nvPicPr>
          <p:cNvPr id="49"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Baltalksnis (</a:t>
            </a:r>
            <a:r>
              <a:rPr b="0" i="1" lang="lv-LV" sz="4400" spc="-1" strike="noStrike">
                <a:solidFill>
                  <a:srgbClr val="000000"/>
                </a:solidFill>
                <a:latin typeface="Calibri Light"/>
              </a:rPr>
              <a:t>Alnus incana</a:t>
            </a:r>
            <a:r>
              <a:rPr b="0" lang="lv-LV" sz="4400" spc="-1" strike="noStrike">
                <a:solidFill>
                  <a:srgbClr val="000000"/>
                </a:solidFill>
                <a:latin typeface="Calibri Light"/>
              </a:rPr>
              <a:t> (L.) Moench)</a:t>
            </a:r>
            <a:endParaRPr b="0" lang="en-US" sz="4400" spc="-1" strike="noStrike">
              <a:solidFill>
                <a:srgbClr val="000000"/>
              </a:solidFill>
              <a:latin typeface="Calibri Light"/>
            </a:endParaRPr>
          </a:p>
        </p:txBody>
      </p:sp>
      <p:sp>
        <p:nvSpPr>
          <p:cNvPr id="51"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Vidēja lieluma vai liels (ga 8-20 m) bērzu dzimtas koks. Miza gluda, gaišpelēka. Vīrišķie un sievišķie ziedi atrodas šķirti uz viena un tā paša koka. Vainags plašs. Pumpuri kātaini. Zied pirms lapu plaukšanas. Lapas veselas, vienkāršas, olveidīgas (ga 4-10 cm, pl 3-6 cm), gals smails, mala divkārtzāģzobaina, lapas pamats ieapaļš vai noapaļots. Sāndzīslas 8-12 pāri. Lapas plātnes virspuse zaļa, kaila, apakšpuse pelēcīga, tūbaina. Vīrišķās ziedu spurdzes garas, nokarenas, sievišķās īsas, gandrīz sēdošas. Pieziedlapas četras, seglapa viena. Saaugot pieziedlapām ar seglapu, veidojas čiekurveidīgu augļu sastats, kas sākotnēji ir zaļš, vēlāk tumši brūns vai melns. Zied marta beigās un aprīlī, sēklas izbirst oktob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āzijā un Ziemeļamerikā sastopams koks.</a:t>
            </a:r>
            <a:br>
              <a:rPr sz="1500"/>
            </a:br>
            <a:br>
              <a:rPr sz="1500"/>
            </a:br>
            <a:r>
              <a:rPr b="0" lang="lv-LV" sz="1500" spc="-1" strike="noStrike">
                <a:solidFill>
                  <a:srgbClr val="000000"/>
                </a:solidFill>
                <a:latin typeface="Calibri"/>
              </a:rPr>
              <a:t>Latvijā ļoti bieži visā teritorijā.</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Strauji aizaudzē nekoptas ganības, pamestas pļavas un tīrumus. Tipiska pioniersuga. Sastopams tīraudzēs un mistraudzēs. Latvijā aizņem 5.3% (2000.g.) mežu; to vairākums veidojies aizaugot dažādām pamestām lauksaimniecības zemēm. Primāros mežos sastopams reti dažās upju ielejās pieupes uzskalotās augsnēs, kas veidojušās smilšu sanesumu rezultātā, un upju krastu gravās. Šādi meži ir Eiropas platlapju mežu klases veģetācija - palieņu baltalksnāji: Cl. Querco-Fagetea, All. Alno-Padion, Ass. Alnetum incanae.</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Nedaudz līdzīgs melnalksnim (A. glutinosa). Atšķirams pēc gaišpelēkas, gludas mizas (ne tumšas, rievainas). Lapas gals smails (nevis jomains vai strups), lapas apakšpuse pelēcīgi tūbaina (melnalksnim lapas abas puses ir zaļas un kaila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2"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14T09:08:52Z</dcterms:created>
  <dc:creator>Viesturs Vēzis</dc:creator>
  <dc:description/>
  <dc:language>en-US</dc:language>
  <cp:lastModifiedBy>Iveta</cp:lastModifiedBy>
  <dcterms:modified xsi:type="dcterms:W3CDTF">2018-09-30T09:23:55Z</dcterms:modified>
  <cp:revision>3</cp:revision>
  <dc:subject/>
  <dc:title>PowerPoint Presentation</dc:title>
</cp:coreProperties>
</file>