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C7DB-1A01-4E07-8243-CF36679F5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9176-19C2-4FFD-BF75-D7A7698E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E54D-52DB-4798-AA62-2A7B9B43F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4454-132C-4628-8173-F4F0727EA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7B59-1F37-4395-9972-E486E5BF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5FFD-5737-49E8-B9D9-45684B73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47D9-806E-48ED-AC5D-90F7B056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4553-8E17-40C2-9AAF-2A9E907C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EE00-CB4A-45D2-8BD8-195A9E75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AE9C-DDC9-4DCF-819D-2B2FCD91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7585-9578-4902-BC3E-803C1137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ECC8-EC9C-4B5A-BEA0-3BD82273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A39A-1148-42C7-9EED-A98847897EAB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lmd.lv/par-latvijas-meziem" TargetMode="External"/><Relationship Id="rId2" Type="http://schemas.openxmlformats.org/officeDocument/2006/relationships/hyperlink" Target="http://www.lmd.lv/par-latvijas-mezie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5040" y="2830320"/>
            <a:ext cx="6634080" cy="998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6000" spc="-1" strike="noStrike">
                <a:solidFill>
                  <a:srgbClr val="000000"/>
                </a:solidFill>
                <a:latin typeface="Calibri Light"/>
              </a:rPr>
              <a:t>Koki Latvijas mežo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0880" y="1100160"/>
            <a:ext cx="3130560" cy="28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Pried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6599160" y="1898640"/>
            <a:ext cx="609840" cy="627120"/>
          </a:xfrm>
          <a:prstGeom prst="rect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7688160" y="3503520"/>
            <a:ext cx="609840" cy="627120"/>
          </a:xfrm>
          <a:prstGeom prst="rect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Priede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466640" y="2090520"/>
            <a:ext cx="5033880" cy="379404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Sila priede gauži raud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umeliņis saknes brid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Ta priedites pašas vain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am aug ceļa maliņâ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8367840" y="966960"/>
            <a:ext cx="14000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Priedes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838080" y="1825200"/>
            <a:ext cx="36799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ievišķās un vīrišķās ziedkop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Čiekurs pēc sēklu izbiršan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729560" y="844560"/>
            <a:ext cx="2800440" cy="3419640"/>
          </a:xfrm>
          <a:prstGeom prst="rect">
            <a:avLst/>
          </a:prstGeom>
          <a:ln w="0">
            <a:noFill/>
          </a:ln>
        </p:spPr>
      </p:pic>
      <p:sp>
        <p:nvSpPr>
          <p:cNvPr id="83" name="TextBox 7"/>
          <p:cNvSpPr/>
          <p:nvPr/>
        </p:nvSpPr>
        <p:spPr>
          <a:xfrm>
            <a:off x="8105040" y="102708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>
            <a:off x="5572080" y="3040200"/>
            <a:ext cx="1104840" cy="1466640"/>
          </a:xfrm>
          <a:prstGeom prst="rect">
            <a:avLst/>
          </a:prstGeom>
          <a:ln w="0">
            <a:noFill/>
          </a:ln>
        </p:spPr>
      </p:pic>
      <p:sp>
        <p:nvSpPr>
          <p:cNvPr id="85" name="TextBox 9"/>
          <p:cNvSpPr/>
          <p:nvPr/>
        </p:nvSpPr>
        <p:spPr>
          <a:xfrm>
            <a:off x="5109480" y="298944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3"/>
          <a:stretch/>
        </p:blipFill>
        <p:spPr>
          <a:xfrm>
            <a:off x="6727680" y="481176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87" name="TextBox 12"/>
          <p:cNvSpPr/>
          <p:nvPr/>
        </p:nvSpPr>
        <p:spPr>
          <a:xfrm>
            <a:off x="6154200" y="497520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949320" y="2227320"/>
            <a:ext cx="10276920" cy="3326400"/>
            <a:chOff x="949320" y="2227320"/>
            <a:chExt cx="10276920" cy="3326400"/>
          </a:xfrm>
        </p:grpSpPr>
        <p:cxnSp>
          <p:nvCxnSpPr>
            <p:cNvPr id="90" name="_s14351"/>
            <p:cNvCxnSpPr>
              <a:stCxn id="91" idx="0"/>
              <a:endCxn id="92" idx="2"/>
            </p:cNvCxnSpPr>
            <p:nvPr/>
          </p:nvCxnSpPr>
          <p:spPr>
            <a:xfrm flipV="1" rot="16200000">
              <a:off x="7755120" y="1891080"/>
              <a:ext cx="665640" cy="399888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14349"/>
            <p:cNvCxnSpPr>
              <a:stCxn id="94" idx="0"/>
              <a:endCxn id="92" idx="2"/>
            </p:cNvCxnSpPr>
            <p:nvPr/>
          </p:nvCxnSpPr>
          <p:spPr>
            <a:xfrm flipV="1" rot="16200000">
              <a:off x="6422400" y="3223800"/>
              <a:ext cx="665640" cy="133344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14348"/>
            <p:cNvCxnSpPr>
              <a:stCxn id="96" idx="0"/>
              <a:endCxn id="92" idx="2"/>
            </p:cNvCxnSpPr>
            <p:nvPr/>
          </p:nvCxnSpPr>
          <p:spPr>
            <a:xfrm flipH="1" flipV="1" rot="5400000">
              <a:off x="5090040" y="3224520"/>
              <a:ext cx="665640" cy="133272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14347"/>
            <p:cNvCxnSpPr>
              <a:stCxn id="98" idx="0"/>
              <a:endCxn id="92" idx="2"/>
            </p:cNvCxnSpPr>
            <p:nvPr/>
          </p:nvCxnSpPr>
          <p:spPr>
            <a:xfrm flipH="1" flipV="1" rot="5400000">
              <a:off x="3757320" y="1891800"/>
              <a:ext cx="665640" cy="399816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2" name="_s14343"/>
            <p:cNvSpPr/>
            <p:nvPr/>
          </p:nvSpPr>
          <p:spPr>
            <a:xfrm>
              <a:off x="4944240" y="222732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iedes grup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_s14344"/>
            <p:cNvSpPr/>
            <p:nvPr/>
          </p:nvSpPr>
          <p:spPr>
            <a:xfrm>
              <a:off x="94932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ied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_s14345"/>
            <p:cNvSpPr/>
            <p:nvPr/>
          </p:nvSpPr>
          <p:spPr>
            <a:xfrm>
              <a:off x="361440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Lap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_s14346"/>
            <p:cNvSpPr/>
            <p:nvPr/>
          </p:nvSpPr>
          <p:spPr>
            <a:xfrm>
              <a:off x="627984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tas pried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_s14350"/>
            <p:cNvSpPr/>
            <p:nvPr/>
          </p:nvSpPr>
          <p:spPr>
            <a:xfrm>
              <a:off x="8944920" y="4223160"/>
              <a:ext cx="228132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edru pried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61680" y="1828800"/>
            <a:ext cx="3213000" cy="96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Alksni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Oval 7"/>
          <p:cNvSpPr/>
          <p:nvPr/>
        </p:nvSpPr>
        <p:spPr>
          <a:xfrm>
            <a:off x="8534520" y="1528920"/>
            <a:ext cx="785520" cy="78408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val 8"/>
          <p:cNvSpPr/>
          <p:nvPr/>
        </p:nvSpPr>
        <p:spPr>
          <a:xfrm>
            <a:off x="7027920" y="2798640"/>
            <a:ext cx="785880" cy="78444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Alksnis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66640" y="2090520"/>
            <a:ext cx="5033880" cy="356220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Mežâ auga duj' kociņi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viens lieti nederej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der alksnis lūku plēs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 ērcašas slotu griez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7710480" y="1095480"/>
            <a:ext cx="29433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Alkšņu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22200" y="2017440"/>
            <a:ext cx="31449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Nākamā gada sievišķo ziedu spurdz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īrišķās ziedu spurdz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Augļkopas un 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5073480" y="1450800"/>
            <a:ext cx="2276640" cy="38768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7"/>
          <p:cNvSpPr/>
          <p:nvPr/>
        </p:nvSpPr>
        <p:spPr>
          <a:xfrm>
            <a:off x="5189040" y="201780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2"/>
          <a:stretch/>
        </p:blipFill>
        <p:spPr>
          <a:xfrm>
            <a:off x="8747280" y="1690560"/>
            <a:ext cx="1742760" cy="26193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9"/>
          <p:cNvSpPr/>
          <p:nvPr/>
        </p:nvSpPr>
        <p:spPr>
          <a:xfrm>
            <a:off x="8170920" y="176688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3"/>
          <a:stretch/>
        </p:blipFill>
        <p:spPr>
          <a:xfrm>
            <a:off x="8577360" y="5022720"/>
            <a:ext cx="2324160" cy="8193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1"/>
          <p:cNvSpPr/>
          <p:nvPr/>
        </p:nvSpPr>
        <p:spPr>
          <a:xfrm>
            <a:off x="8058240" y="520236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25560" y="2154240"/>
            <a:ext cx="5485320" cy="2742480"/>
            <a:chOff x="2725560" y="2154240"/>
            <a:chExt cx="5485320" cy="2742480"/>
          </a:xfrm>
        </p:grpSpPr>
        <p:cxnSp>
          <p:nvCxnSpPr>
            <p:cNvPr id="115" name="_s18443"/>
            <p:cNvCxnSpPr>
              <a:stCxn id="116" idx="0"/>
              <a:endCxn id="117" idx="2"/>
            </p:cNvCxnSpPr>
            <p:nvPr/>
          </p:nvCxnSpPr>
          <p:spPr>
            <a:xfrm flipV="1">
              <a:off x="5467680" y="3250440"/>
              <a:ext cx="6120" cy="549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7" name="_s18439"/>
            <p:cNvSpPr/>
            <p:nvPr/>
          </p:nvSpPr>
          <p:spPr>
            <a:xfrm>
              <a:off x="2725560" y="2154240"/>
              <a:ext cx="5485320" cy="10969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Baltalkšņa grupa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_s18440"/>
            <p:cNvSpPr/>
            <p:nvPr/>
          </p:nvSpPr>
          <p:spPr>
            <a:xfrm>
              <a:off x="2725560" y="3799800"/>
              <a:ext cx="5485320" cy="10969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Baltalksni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Content Placeholder 14"/>
          <p:cNvGraphicFramePr/>
          <p:nvPr/>
        </p:nvGraphicFramePr>
        <p:xfrm>
          <a:off x="531720" y="595440"/>
          <a:ext cx="10617120" cy="565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Content Placeholder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95440"/>
                    <a:ext cx="10617120" cy="56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</a:t>
            </a:r>
            <a:r>
              <a:rPr b="0" lang="lv-LV" sz="2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://www.lmd.lv/par-latvijas-mez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://www.dainuskapis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s://www.latvijasdaba.lv/aug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www.csb.gov.lv/lv/statistika/db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s://www.letonika.lv/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www.lvm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lv.wikipedia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://www.la.lv/plavu-vieta-baltalksnis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ēc Valsts meža dienesta datiem meža zemju platības ir 50,3% no valsts teritorijas kopējo platīb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eži Latvijā aizņem 2 965 118 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ežu sadalījums pēc piederīb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alstij piederošais mežs 1 489 523 ha platīb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ārējiem īpašniekiem piederošais ir 1 475 595 ha platīb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ksnes pieaugums, kas katru gadu veidojas, kokiem augot, ir 16,5 milj. m</a:t>
            </a:r>
            <a:r>
              <a:rPr b="0" lang="lv-LV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 gad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Ik gadu zināms daudzums koksnes tiek nocirs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eicot izaugušās koksnes ražas ievākšanu galvenajā cirt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cērtot kokus kopšanas un sanitārajās cirtēs paliekošās mežaudzes stāvokļa uzlabošana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Lielākajai daļai mežaudžu valdošās koku sugas ir skuju ko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kuju koki aizņem 55% no visu audžu platībā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riede – 37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egle – 18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Izplatītākā lapu koku suga ir bērzs – 3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Koku sugas mežaudzē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9" name="Content Placeholder 5"/>
          <p:cNvGraphicFramePr/>
          <p:nvPr/>
        </p:nvGraphicFramePr>
        <p:xfrm>
          <a:off x="787320" y="1774800"/>
          <a:ext cx="10617120" cy="44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Content Placeholder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774800"/>
                    <a:ext cx="1061712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1960" y="1709280"/>
            <a:ext cx="2286000" cy="285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Eg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Rectangle 25"/>
          <p:cNvSpPr/>
          <p:nvPr/>
        </p:nvSpPr>
        <p:spPr>
          <a:xfrm>
            <a:off x="5430960" y="3824280"/>
            <a:ext cx="738000" cy="738360"/>
          </a:xfrm>
          <a:prstGeom prst="rect">
            <a:avLst/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6"/>
          <p:cNvSpPr/>
          <p:nvPr/>
        </p:nvSpPr>
        <p:spPr>
          <a:xfrm>
            <a:off x="7232760" y="3135240"/>
            <a:ext cx="738000" cy="739800"/>
          </a:xfrm>
          <a:prstGeom prst="rect">
            <a:avLst/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Egle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466640" y="2090520"/>
            <a:ext cx="5033880" cy="356220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evienami tà nebij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à vàlodzes bērniņam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Cik vējiņis eglê pūt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Tik eglite šūpojà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8415360" y="966960"/>
            <a:ext cx="12193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838080" y="1825200"/>
            <a:ext cx="33609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ievišķie čieku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īrišķie čieku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Nogatavojies čiekurs un 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Egles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5097600" y="1481040"/>
            <a:ext cx="2695320" cy="1943280"/>
          </a:xfrm>
          <a:prstGeom prst="rect">
            <a:avLst/>
          </a:prstGeom>
          <a:ln w="0">
            <a:noFill/>
          </a:ln>
        </p:spPr>
      </p:pic>
      <p:sp>
        <p:nvSpPr>
          <p:cNvPr id="60" name="TextBox 6"/>
          <p:cNvSpPr/>
          <p:nvPr/>
        </p:nvSpPr>
        <p:spPr>
          <a:xfrm>
            <a:off x="5369040" y="164160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2"/>
          <a:stretch/>
        </p:blipFill>
        <p:spPr>
          <a:xfrm>
            <a:off x="8836200" y="2816280"/>
            <a:ext cx="2428560" cy="1181160"/>
          </a:xfrm>
          <a:prstGeom prst="rect">
            <a:avLst/>
          </a:prstGeom>
          <a:ln w="0">
            <a:noFill/>
          </a:ln>
        </p:spPr>
      </p:pic>
      <p:sp>
        <p:nvSpPr>
          <p:cNvPr id="62" name="TextBox 10"/>
          <p:cNvSpPr/>
          <p:nvPr/>
        </p:nvSpPr>
        <p:spPr>
          <a:xfrm>
            <a:off x="9066240" y="228924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3"/>
          <a:stretch/>
        </p:blipFill>
        <p:spPr>
          <a:xfrm>
            <a:off x="5208480" y="3948120"/>
            <a:ext cx="3524400" cy="2228760"/>
          </a:xfrm>
          <a:prstGeom prst="rect">
            <a:avLst/>
          </a:prstGeom>
          <a:ln w="0">
            <a:noFill/>
          </a:ln>
        </p:spPr>
      </p:pic>
      <p:sp>
        <p:nvSpPr>
          <p:cNvPr id="64" name="TextBox 12"/>
          <p:cNvSpPr/>
          <p:nvPr/>
        </p:nvSpPr>
        <p:spPr>
          <a:xfrm>
            <a:off x="4938120" y="413244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574640" y="2049480"/>
            <a:ext cx="8619480" cy="4308480"/>
            <a:chOff x="1574640" y="2049480"/>
            <a:chExt cx="8619480" cy="4308480"/>
          </a:xfrm>
        </p:grpSpPr>
        <p:cxnSp>
          <p:nvCxnSpPr>
            <p:cNvPr id="67" name="_s10253"/>
            <p:cNvCxnSpPr>
              <a:stCxn id="68" idx="0"/>
              <a:endCxn id="69" idx="2"/>
            </p:cNvCxnSpPr>
            <p:nvPr/>
          </p:nvCxnSpPr>
          <p:spPr>
            <a:xfrm flipV="1" rot="16200000">
              <a:off x="6961680" y="2694240"/>
              <a:ext cx="862200" cy="3017520"/>
            </a:xfrm>
            <a:prstGeom prst="bentConnector3">
              <a:avLst>
                <a:gd name="adj1" fmla="val 20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0252"/>
            <p:cNvCxnSpPr>
              <a:stCxn id="71" idx="0"/>
              <a:endCxn id="69" idx="2"/>
            </p:cNvCxnSpPr>
            <p:nvPr/>
          </p:nvCxnSpPr>
          <p:spPr>
            <a:xfrm flipV="1">
              <a:off x="5884200" y="3772080"/>
              <a:ext cx="3240" cy="862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0251"/>
            <p:cNvCxnSpPr>
              <a:stCxn id="73" idx="0"/>
              <a:endCxn id="69" idx="2"/>
            </p:cNvCxnSpPr>
            <p:nvPr/>
          </p:nvCxnSpPr>
          <p:spPr>
            <a:xfrm flipH="1" flipV="1" rot="5400000">
              <a:off x="3946320" y="2696040"/>
              <a:ext cx="862200" cy="3014640"/>
            </a:xfrm>
            <a:prstGeom prst="bentConnector3">
              <a:avLst>
                <a:gd name="adj1" fmla="val 20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9" name="_s10247"/>
            <p:cNvSpPr/>
            <p:nvPr/>
          </p:nvSpPr>
          <p:spPr>
            <a:xfrm>
              <a:off x="4591440" y="204948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Egles grup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_s10248"/>
            <p:cNvSpPr/>
            <p:nvPr/>
          </p:nvSpPr>
          <p:spPr>
            <a:xfrm>
              <a:off x="15746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_s10249"/>
            <p:cNvSpPr/>
            <p:nvPr/>
          </p:nvSpPr>
          <p:spPr>
            <a:xfrm>
              <a:off x="45914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tas egl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_s10250"/>
            <p:cNvSpPr/>
            <p:nvPr/>
          </p:nvSpPr>
          <p:spPr>
            <a:xfrm>
              <a:off x="76082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Balt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2T09:22:32Z</dcterms:created>
  <dc:creator>Windows User</dc:creator>
  <dc:description/>
  <dc:language>en-US</dc:language>
  <cp:lastModifiedBy>VISC</cp:lastModifiedBy>
  <dcterms:modified xsi:type="dcterms:W3CDTF">2019-05-30T13:55:55Z</dcterms:modified>
  <cp:revision>70</cp:revision>
  <dc:subject/>
  <dc:title>PowerPoint Presentation</dc:title>
</cp:coreProperties>
</file>