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1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media/image5.png" ContentType="image/pn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166C9-E9F2-4CC4-BA25-FD129217F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8F180-7DC4-41A3-A72A-FA47844BB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B6F08-BD0A-4D7A-B7AD-E43B04026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E248C-EE88-48F6-AF62-6FBCCBDB9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52531-C649-43F8-93BE-5C10BEBEA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E740C-095D-400D-981C-23918A7BD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FBF49-CAD5-412D-96A0-91A060AB0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03918-6477-4F51-9B30-4ACFD3081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30BC4-DFF3-45DD-8081-7AB06CA6B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58EC3-64E1-4C94-AA26-5197FBA38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8018C-FEE0-445C-9176-833189435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E7A05-FF3F-44E6-BA2B-0529DB7DF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F2AB4-6DE8-4A7C-BBFA-45D8355B3D85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lmd.lv/par-latvijas-meziem" TargetMode="External"/><Relationship Id="rId2" Type="http://schemas.openxmlformats.org/officeDocument/2006/relationships/hyperlink" Target="http://www.lmd.lv/par-latvijas-meziem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975040" y="2830320"/>
            <a:ext cx="6634080" cy="9982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6000" spc="-1" strike="noStrike">
                <a:solidFill>
                  <a:srgbClr val="000000"/>
                </a:solidFill>
                <a:latin typeface="Calibri Light"/>
              </a:rPr>
              <a:t>Koki Latvijas mežos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820880" y="1100160"/>
            <a:ext cx="3130560" cy="285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6000" spc="-1" strike="noStrike">
                <a:solidFill>
                  <a:srgbClr val="000000"/>
                </a:solidFill>
                <a:latin typeface="Calibri Light"/>
              </a:rPr>
              <a:t>Pried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" name="Rectangle 10"/>
          <p:cNvSpPr/>
          <p:nvPr/>
        </p:nvSpPr>
        <p:spPr>
          <a:xfrm>
            <a:off x="6599160" y="1898640"/>
            <a:ext cx="609840" cy="627120"/>
          </a:xfrm>
          <a:prstGeom prst="rect">
            <a:avLst/>
          </a:prstGeom>
          <a:solidFill>
            <a:srgbClr val="ffc0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1"/>
          <p:cNvSpPr/>
          <p:nvPr/>
        </p:nvSpPr>
        <p:spPr>
          <a:xfrm>
            <a:off x="7688160" y="3503520"/>
            <a:ext cx="609840" cy="627120"/>
          </a:xfrm>
          <a:prstGeom prst="rect">
            <a:avLst/>
          </a:prstGeom>
          <a:solidFill>
            <a:srgbClr val="ffc0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8080" y="30312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 Light"/>
              </a:rPr>
              <a:t>Priede tautas folklorā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1466640" y="2090520"/>
            <a:ext cx="5033880" cy="3794040"/>
          </a:xfrm>
          <a:prstGeom prst="rect">
            <a:avLst/>
          </a:prstGeom>
          <a:solidFill>
            <a:srgbClr val="c5e0b4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58920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Times New Roman"/>
                <a:ea typeface="Verdana"/>
              </a:rPr>
              <a:t>Sila priede gauži raud,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58920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Times New Roman"/>
                <a:ea typeface="Verdana"/>
              </a:rPr>
              <a:t>Kumeliņis saknes brida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58920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Times New Roman"/>
                <a:ea typeface="Verdana"/>
              </a:rPr>
              <a:t>Ta priedites pašas vaina,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58920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Times New Roman"/>
                <a:ea typeface="Verdana"/>
              </a:rPr>
              <a:t>Kam aug ceļa maliņâ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58920" algn="r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Times New Roman"/>
                <a:ea typeface="Verdana"/>
              </a:rPr>
              <a:t>Nr.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3" descr=""/>
          <p:cNvPicPr/>
          <p:nvPr/>
        </p:nvPicPr>
        <p:blipFill>
          <a:blip r:embed="rId1"/>
          <a:stretch/>
        </p:blipFill>
        <p:spPr>
          <a:xfrm>
            <a:off x="8367840" y="966960"/>
            <a:ext cx="140004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 Light"/>
              </a:rPr>
              <a:t>Priedes vairošanās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838080" y="1825200"/>
            <a:ext cx="367992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5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Sievišķās un vīrišķās ziedkop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5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Čiekurs pēc sēklu izbiršana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5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Sēkl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7729560" y="844560"/>
            <a:ext cx="2800440" cy="3419640"/>
          </a:xfrm>
          <a:prstGeom prst="rect">
            <a:avLst/>
          </a:prstGeom>
          <a:ln w="0">
            <a:noFill/>
          </a:ln>
        </p:spPr>
      </p:pic>
      <p:sp>
        <p:nvSpPr>
          <p:cNvPr id="83" name="TextBox 7"/>
          <p:cNvSpPr/>
          <p:nvPr/>
        </p:nvSpPr>
        <p:spPr>
          <a:xfrm>
            <a:off x="8105040" y="1027080"/>
            <a:ext cx="45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1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8" descr=""/>
          <p:cNvPicPr/>
          <p:nvPr/>
        </p:nvPicPr>
        <p:blipFill>
          <a:blip r:embed="rId2"/>
          <a:stretch/>
        </p:blipFill>
        <p:spPr>
          <a:xfrm>
            <a:off x="5572080" y="3040200"/>
            <a:ext cx="1104840" cy="1466640"/>
          </a:xfrm>
          <a:prstGeom prst="rect">
            <a:avLst/>
          </a:prstGeom>
          <a:ln w="0">
            <a:noFill/>
          </a:ln>
        </p:spPr>
      </p:pic>
      <p:sp>
        <p:nvSpPr>
          <p:cNvPr id="85" name="TextBox 9"/>
          <p:cNvSpPr/>
          <p:nvPr/>
        </p:nvSpPr>
        <p:spPr>
          <a:xfrm>
            <a:off x="5109480" y="2989440"/>
            <a:ext cx="45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2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11" descr=""/>
          <p:cNvPicPr/>
          <p:nvPr/>
        </p:nvPicPr>
        <p:blipFill>
          <a:blip r:embed="rId3"/>
          <a:stretch/>
        </p:blipFill>
        <p:spPr>
          <a:xfrm>
            <a:off x="6727680" y="4811760"/>
            <a:ext cx="762120" cy="685800"/>
          </a:xfrm>
          <a:prstGeom prst="rect">
            <a:avLst/>
          </a:prstGeom>
          <a:ln w="0">
            <a:noFill/>
          </a:ln>
        </p:spPr>
      </p:pic>
      <p:sp>
        <p:nvSpPr>
          <p:cNvPr id="87" name="TextBox 12"/>
          <p:cNvSpPr/>
          <p:nvPr/>
        </p:nvSpPr>
        <p:spPr>
          <a:xfrm>
            <a:off x="6154200" y="4975200"/>
            <a:ext cx="45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3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 Light"/>
              </a:rPr>
              <a:t>Sugu grupējumi mežsaimniecībā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949320" y="2227320"/>
            <a:ext cx="10276920" cy="3326400"/>
            <a:chOff x="949320" y="2227320"/>
            <a:chExt cx="10276920" cy="3326400"/>
          </a:xfrm>
        </p:grpSpPr>
        <p:cxnSp>
          <p:nvCxnSpPr>
            <p:cNvPr id="90" name="_s14351"/>
            <p:cNvCxnSpPr>
              <a:stCxn id="91" idx="0"/>
              <a:endCxn id="92" idx="2"/>
            </p:cNvCxnSpPr>
            <p:nvPr/>
          </p:nvCxnSpPr>
          <p:spPr>
            <a:xfrm flipV="1" rot="16200000">
              <a:off x="7755120" y="1891080"/>
              <a:ext cx="665640" cy="3998880"/>
            </a:xfrm>
            <a:prstGeom prst="bentConnector3">
              <a:avLst>
                <a:gd name="adj1" fmla="val 2077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3" name="_s14349"/>
            <p:cNvCxnSpPr>
              <a:stCxn id="94" idx="0"/>
              <a:endCxn id="92" idx="2"/>
            </p:cNvCxnSpPr>
            <p:nvPr/>
          </p:nvCxnSpPr>
          <p:spPr>
            <a:xfrm flipV="1" rot="16200000">
              <a:off x="6422400" y="3223800"/>
              <a:ext cx="665640" cy="1333440"/>
            </a:xfrm>
            <a:prstGeom prst="bentConnector3">
              <a:avLst>
                <a:gd name="adj1" fmla="val 2077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5" name="_s14348"/>
            <p:cNvCxnSpPr>
              <a:stCxn id="96" idx="0"/>
              <a:endCxn id="92" idx="2"/>
            </p:cNvCxnSpPr>
            <p:nvPr/>
          </p:nvCxnSpPr>
          <p:spPr>
            <a:xfrm flipH="1" flipV="1" rot="5400000">
              <a:off x="5090040" y="3224520"/>
              <a:ext cx="665640" cy="1332720"/>
            </a:xfrm>
            <a:prstGeom prst="bentConnector3">
              <a:avLst>
                <a:gd name="adj1" fmla="val 2077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7" name="_s14347"/>
            <p:cNvCxnSpPr>
              <a:stCxn id="98" idx="0"/>
              <a:endCxn id="92" idx="2"/>
            </p:cNvCxnSpPr>
            <p:nvPr/>
          </p:nvCxnSpPr>
          <p:spPr>
            <a:xfrm flipH="1" flipV="1" rot="5400000">
              <a:off x="3757320" y="1891800"/>
              <a:ext cx="665640" cy="3998160"/>
            </a:xfrm>
            <a:prstGeom prst="bentConnector3">
              <a:avLst>
                <a:gd name="adj1" fmla="val 20779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92" name="_s14343"/>
            <p:cNvSpPr/>
            <p:nvPr/>
          </p:nvSpPr>
          <p:spPr>
            <a:xfrm>
              <a:off x="4944240" y="2227320"/>
              <a:ext cx="2284200" cy="1330560"/>
            </a:xfrm>
            <a:prstGeom prst="roundRect">
              <a:avLst>
                <a:gd name="adj" fmla="val 16667"/>
              </a:avLst>
            </a:prstGeom>
            <a:solidFill>
              <a:srgbClr val="5b9bd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Priedes grupa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_s14344"/>
            <p:cNvSpPr/>
            <p:nvPr/>
          </p:nvSpPr>
          <p:spPr>
            <a:xfrm>
              <a:off x="949320" y="4223160"/>
              <a:ext cx="2284200" cy="1330560"/>
            </a:xfrm>
            <a:prstGeom prst="roundRect">
              <a:avLst>
                <a:gd name="adj" fmla="val 16667"/>
              </a:avLst>
            </a:prstGeom>
            <a:solidFill>
              <a:srgbClr val="5b9bd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Priede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_s14345"/>
            <p:cNvSpPr/>
            <p:nvPr/>
          </p:nvSpPr>
          <p:spPr>
            <a:xfrm>
              <a:off x="3614400" y="4223160"/>
              <a:ext cx="2284200" cy="1330560"/>
            </a:xfrm>
            <a:prstGeom prst="roundRect">
              <a:avLst>
                <a:gd name="adj" fmla="val 16667"/>
              </a:avLst>
            </a:prstGeom>
            <a:solidFill>
              <a:srgbClr val="5b9bd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Lapegle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_s14346"/>
            <p:cNvSpPr/>
            <p:nvPr/>
          </p:nvSpPr>
          <p:spPr>
            <a:xfrm>
              <a:off x="6279840" y="4223160"/>
              <a:ext cx="2284200" cy="1330560"/>
            </a:xfrm>
            <a:prstGeom prst="roundRect">
              <a:avLst>
                <a:gd name="adj" fmla="val 16667"/>
              </a:avLst>
            </a:prstGeom>
            <a:solidFill>
              <a:srgbClr val="5b9bd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Citas priedes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_s14350"/>
            <p:cNvSpPr/>
            <p:nvPr/>
          </p:nvSpPr>
          <p:spPr>
            <a:xfrm>
              <a:off x="8944920" y="4223160"/>
              <a:ext cx="2281320" cy="1330560"/>
            </a:xfrm>
            <a:prstGeom prst="roundRect">
              <a:avLst>
                <a:gd name="adj" fmla="val 16667"/>
              </a:avLst>
            </a:prstGeom>
            <a:solidFill>
              <a:srgbClr val="5b9bd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Ciedru priede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61680" y="1828800"/>
            <a:ext cx="3213000" cy="96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6000" spc="-1" strike="noStrike">
                <a:solidFill>
                  <a:srgbClr val="000000"/>
                </a:solidFill>
                <a:latin typeface="Calibri Light"/>
              </a:rPr>
              <a:t>Alksnis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0" name="Oval 7"/>
          <p:cNvSpPr/>
          <p:nvPr/>
        </p:nvSpPr>
        <p:spPr>
          <a:xfrm>
            <a:off x="8534520" y="1528920"/>
            <a:ext cx="785520" cy="784080"/>
          </a:xfrm>
          <a:prstGeom prst="ellipse">
            <a:avLst/>
          </a:prstGeom>
          <a:solidFill>
            <a:srgbClr val="ffc0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Oval 8"/>
          <p:cNvSpPr/>
          <p:nvPr/>
        </p:nvSpPr>
        <p:spPr>
          <a:xfrm>
            <a:off x="7027920" y="2798640"/>
            <a:ext cx="785880" cy="784440"/>
          </a:xfrm>
          <a:prstGeom prst="ellipse">
            <a:avLst/>
          </a:prstGeom>
          <a:solidFill>
            <a:srgbClr val="ffc0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30312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 Light"/>
              </a:rPr>
              <a:t>Alksnis tautas folklorā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466640" y="2090520"/>
            <a:ext cx="5033880" cy="3562200"/>
          </a:xfrm>
          <a:prstGeom prst="rect">
            <a:avLst/>
          </a:prstGeom>
          <a:solidFill>
            <a:srgbClr val="c5e0b4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5892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  <a:ea typeface="Verdana"/>
              </a:rPr>
              <a:t>Mežâ auga duj' kociņi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5892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  <a:ea typeface="Verdana"/>
              </a:rPr>
              <a:t>Neviens lieti nedereja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5892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  <a:ea typeface="Verdana"/>
              </a:rPr>
              <a:t>Neder alksnis lūku plēst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5892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  <a:ea typeface="Verdana"/>
              </a:rPr>
              <a:t>Ne ērcašas slotu griez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58920" algn="r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  <a:ea typeface="Verdana"/>
              </a:rPr>
              <a:t>Nr.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5892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4" descr=""/>
          <p:cNvPicPr/>
          <p:nvPr/>
        </p:nvPicPr>
        <p:blipFill>
          <a:blip r:embed="rId1"/>
          <a:stretch/>
        </p:blipFill>
        <p:spPr>
          <a:xfrm>
            <a:off x="7710480" y="1095480"/>
            <a:ext cx="294336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 Light"/>
              </a:rPr>
              <a:t>Alkšņu vairošanās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222200" y="2017440"/>
            <a:ext cx="31449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Nākamā gada sievišķo ziedu spurdz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Vīrišķās ziedu spurdz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Augļkopas un sēkl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1" descr=""/>
          <p:cNvPicPr/>
          <p:nvPr/>
        </p:nvPicPr>
        <p:blipFill>
          <a:blip r:embed="rId1"/>
          <a:stretch/>
        </p:blipFill>
        <p:spPr>
          <a:xfrm>
            <a:off x="5073480" y="1450800"/>
            <a:ext cx="2276640" cy="3876840"/>
          </a:xfrm>
          <a:prstGeom prst="rect">
            <a:avLst/>
          </a:prstGeom>
          <a:ln w="0">
            <a:noFill/>
          </a:ln>
        </p:spPr>
      </p:pic>
      <p:sp>
        <p:nvSpPr>
          <p:cNvPr id="108" name="TextBox 7"/>
          <p:cNvSpPr/>
          <p:nvPr/>
        </p:nvSpPr>
        <p:spPr>
          <a:xfrm>
            <a:off x="5189040" y="2017800"/>
            <a:ext cx="41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8" descr=""/>
          <p:cNvPicPr/>
          <p:nvPr/>
        </p:nvPicPr>
        <p:blipFill>
          <a:blip r:embed="rId2"/>
          <a:stretch/>
        </p:blipFill>
        <p:spPr>
          <a:xfrm>
            <a:off x="8747280" y="1690560"/>
            <a:ext cx="1742760" cy="2619360"/>
          </a:xfrm>
          <a:prstGeom prst="rect">
            <a:avLst/>
          </a:prstGeom>
          <a:ln w="0">
            <a:noFill/>
          </a:ln>
        </p:spPr>
      </p:pic>
      <p:sp>
        <p:nvSpPr>
          <p:cNvPr id="110" name="TextBox 9"/>
          <p:cNvSpPr/>
          <p:nvPr/>
        </p:nvSpPr>
        <p:spPr>
          <a:xfrm>
            <a:off x="8170920" y="1766880"/>
            <a:ext cx="41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10" descr=""/>
          <p:cNvPicPr/>
          <p:nvPr/>
        </p:nvPicPr>
        <p:blipFill>
          <a:blip r:embed="rId3"/>
          <a:stretch/>
        </p:blipFill>
        <p:spPr>
          <a:xfrm>
            <a:off x="8577360" y="5022720"/>
            <a:ext cx="2324160" cy="819360"/>
          </a:xfrm>
          <a:prstGeom prst="rect">
            <a:avLst/>
          </a:prstGeom>
          <a:ln w="0">
            <a:noFill/>
          </a:ln>
        </p:spPr>
      </p:pic>
      <p:sp>
        <p:nvSpPr>
          <p:cNvPr id="112" name="TextBox 11"/>
          <p:cNvSpPr/>
          <p:nvPr/>
        </p:nvSpPr>
        <p:spPr>
          <a:xfrm>
            <a:off x="8058240" y="5202360"/>
            <a:ext cx="41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 Light"/>
              </a:rPr>
              <a:t>Sugu grupējumi mežsaimniecībā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2725560" y="2154240"/>
            <a:ext cx="5485320" cy="2742480"/>
            <a:chOff x="2725560" y="2154240"/>
            <a:chExt cx="5485320" cy="2742480"/>
          </a:xfrm>
        </p:grpSpPr>
        <p:cxnSp>
          <p:nvCxnSpPr>
            <p:cNvPr id="115" name="_s18443"/>
            <p:cNvCxnSpPr>
              <a:stCxn id="116" idx="0"/>
              <a:endCxn id="117" idx="2"/>
            </p:cNvCxnSpPr>
            <p:nvPr/>
          </p:nvCxnSpPr>
          <p:spPr>
            <a:xfrm flipV="1">
              <a:off x="5467680" y="3250440"/>
              <a:ext cx="6120" cy="5490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17" name="_s18439"/>
            <p:cNvSpPr/>
            <p:nvPr/>
          </p:nvSpPr>
          <p:spPr>
            <a:xfrm>
              <a:off x="2725560" y="2154240"/>
              <a:ext cx="5485320" cy="1096920"/>
            </a:xfrm>
            <a:prstGeom prst="roundRect">
              <a:avLst>
                <a:gd name="adj" fmla="val 16667"/>
              </a:avLst>
            </a:prstGeom>
            <a:solidFill>
              <a:srgbClr val="5b9bd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alibri"/>
                </a:rPr>
                <a:t>Baltalkšņa grupa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_s18440"/>
            <p:cNvSpPr/>
            <p:nvPr/>
          </p:nvSpPr>
          <p:spPr>
            <a:xfrm>
              <a:off x="2725560" y="3799800"/>
              <a:ext cx="5485320" cy="1096920"/>
            </a:xfrm>
            <a:prstGeom prst="roundRect">
              <a:avLst>
                <a:gd name="adj" fmla="val 16667"/>
              </a:avLst>
            </a:prstGeom>
            <a:solidFill>
              <a:srgbClr val="5b9bd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alibri"/>
                </a:rPr>
                <a:t>Baltalksnis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8" name="Content Placeholder 14"/>
          <p:cNvGraphicFramePr/>
          <p:nvPr/>
        </p:nvGraphicFramePr>
        <p:xfrm>
          <a:off x="531720" y="595440"/>
          <a:ext cx="10617120" cy="5651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9" name="Content Placeholder 1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1720" y="595440"/>
                    <a:ext cx="10617120" cy="56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 Light"/>
              </a:rPr>
              <a:t>Izmantotie avoti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http</a:t>
            </a:r>
            <a:r>
              <a:rPr b="0" lang="lv-LV" sz="2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://www.lmd.lv/par-latvijas-mezi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 u="sng">
                <a:solidFill>
                  <a:srgbClr val="000000"/>
                </a:solidFill>
                <a:uFillTx/>
                <a:latin typeface="Calibri"/>
              </a:rPr>
              <a:t>http://www.dainuskapis.lv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 u="sng">
                <a:solidFill>
                  <a:srgbClr val="000000"/>
                </a:solidFill>
                <a:uFillTx/>
                <a:latin typeface="Calibri"/>
              </a:rPr>
              <a:t>https://www.latvijasdaba.lv/aug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https://www.csb.gov.lv/lv/statistika/db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 u="sng">
                <a:solidFill>
                  <a:srgbClr val="000000"/>
                </a:solidFill>
                <a:uFillTx/>
                <a:latin typeface="Calibri"/>
              </a:rPr>
              <a:t>https://www.letonika.lv/</a:t>
            </a: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https://www.lvm.lv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https://lv.wikipedia.or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http://www.la.lv/plavu-vieta-baltalksnis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Pēc Valsts meža dienesta datiem meža zemju platības ir 50,3% no valsts teritorijas kopējo platīb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Meži Latvijā aizņem 2 965 118 h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Mežu sadalījums pēc piederība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valstij piederošais mežs 1 489 523 ha platīb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pārējiem īpašniekiem piederošais ir 1 475 595 ha platīb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Koksnes pieaugums, kas katru gadu veidojas, kokiem augot, ir 16,5 milj. m</a:t>
            </a:r>
            <a:r>
              <a:rPr b="0" lang="lv-LV" sz="28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 gad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Ik gadu zināms daudzums koksnes tiek nocirst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veicot izaugušās koksnes ražas ievākšanu galvenajā cirtē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cērtot kokus kopšanas un sanitārajās cirtēs paliekošās mežaudzes stāvokļa uzlabošana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Lielākajai daļai mežaudžu valdošās koku sugas ir skuju kok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Skuju koki aizņem 55% no visu audžu platībām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priede – 37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egle – 18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Izplatītākā lapu koku suga ir bērzs – 30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 Light"/>
              </a:rPr>
              <a:t>Koku sugas mežaudzēs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9" name="Content Placeholder 5"/>
          <p:cNvGraphicFramePr/>
          <p:nvPr/>
        </p:nvGraphicFramePr>
        <p:xfrm>
          <a:off x="787320" y="1774800"/>
          <a:ext cx="10617120" cy="4452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0" name="Content Placeholder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774800"/>
                    <a:ext cx="10617120" cy="445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1960" y="1709280"/>
            <a:ext cx="2286000" cy="285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6000" spc="-1" strike="noStrike">
                <a:solidFill>
                  <a:srgbClr val="000000"/>
                </a:solidFill>
                <a:latin typeface="Calibri Light"/>
              </a:rPr>
              <a:t>Eg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Rectangle 25"/>
          <p:cNvSpPr/>
          <p:nvPr/>
        </p:nvSpPr>
        <p:spPr>
          <a:xfrm>
            <a:off x="5430960" y="3824280"/>
            <a:ext cx="738000" cy="738360"/>
          </a:xfrm>
          <a:prstGeom prst="rect">
            <a:avLst/>
          </a:prstGeom>
          <a:solidFill>
            <a:srgbClr val="92d05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26"/>
          <p:cNvSpPr/>
          <p:nvPr/>
        </p:nvSpPr>
        <p:spPr>
          <a:xfrm>
            <a:off x="7232760" y="3135240"/>
            <a:ext cx="738000" cy="739800"/>
          </a:xfrm>
          <a:prstGeom prst="rect">
            <a:avLst/>
          </a:prstGeom>
          <a:solidFill>
            <a:srgbClr val="92d05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8080" y="30312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 Light"/>
              </a:rPr>
              <a:t>Egle tautas folklorā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1466640" y="2090520"/>
            <a:ext cx="5033880" cy="3562200"/>
          </a:xfrm>
          <a:prstGeom prst="rect">
            <a:avLst/>
          </a:prstGeom>
          <a:solidFill>
            <a:srgbClr val="c5e0b4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5892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Times New Roman"/>
                <a:ea typeface="Verdana"/>
              </a:rPr>
              <a:t>Nevienami tà nebija,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5892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Times New Roman"/>
                <a:ea typeface="Verdana"/>
              </a:rPr>
              <a:t>Kà vàlodzes bērniņam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5892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Times New Roman"/>
                <a:ea typeface="Verdana"/>
              </a:rPr>
              <a:t>Cik vējiņis eglê pūta,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5892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Times New Roman"/>
                <a:ea typeface="Verdana"/>
              </a:rPr>
              <a:t>Tik eglite šūpojà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58920" algn="r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Times New Roman"/>
                <a:ea typeface="Verdana"/>
              </a:rPr>
              <a:t>Nr.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3" descr=""/>
          <p:cNvPicPr/>
          <p:nvPr/>
        </p:nvPicPr>
        <p:blipFill>
          <a:blip r:embed="rId1"/>
          <a:stretch/>
        </p:blipFill>
        <p:spPr>
          <a:xfrm>
            <a:off x="8415360" y="966960"/>
            <a:ext cx="121932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838080" y="1825200"/>
            <a:ext cx="33609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4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Sievišķie čiekur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4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Vīrišķie čiekur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4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Nogatavojies čiekurs un sēkl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 Light"/>
              </a:rPr>
              <a:t>Egles vairošanās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9" name="Picture 5" descr=""/>
          <p:cNvPicPr/>
          <p:nvPr/>
        </p:nvPicPr>
        <p:blipFill>
          <a:blip r:embed="rId1"/>
          <a:stretch/>
        </p:blipFill>
        <p:spPr>
          <a:xfrm>
            <a:off x="5097600" y="1481040"/>
            <a:ext cx="2695320" cy="1943280"/>
          </a:xfrm>
          <a:prstGeom prst="rect">
            <a:avLst/>
          </a:prstGeom>
          <a:ln w="0">
            <a:noFill/>
          </a:ln>
        </p:spPr>
      </p:pic>
      <p:sp>
        <p:nvSpPr>
          <p:cNvPr id="60" name="TextBox 6"/>
          <p:cNvSpPr/>
          <p:nvPr/>
        </p:nvSpPr>
        <p:spPr>
          <a:xfrm>
            <a:off x="5369040" y="1641600"/>
            <a:ext cx="41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7" descr=""/>
          <p:cNvPicPr/>
          <p:nvPr/>
        </p:nvPicPr>
        <p:blipFill>
          <a:blip r:embed="rId2"/>
          <a:stretch/>
        </p:blipFill>
        <p:spPr>
          <a:xfrm>
            <a:off x="8836200" y="2816280"/>
            <a:ext cx="2428560" cy="1181160"/>
          </a:xfrm>
          <a:prstGeom prst="rect">
            <a:avLst/>
          </a:prstGeom>
          <a:ln w="0">
            <a:noFill/>
          </a:ln>
        </p:spPr>
      </p:pic>
      <p:sp>
        <p:nvSpPr>
          <p:cNvPr id="62" name="TextBox 10"/>
          <p:cNvSpPr/>
          <p:nvPr/>
        </p:nvSpPr>
        <p:spPr>
          <a:xfrm>
            <a:off x="9066240" y="2289240"/>
            <a:ext cx="41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9" descr=""/>
          <p:cNvPicPr/>
          <p:nvPr/>
        </p:nvPicPr>
        <p:blipFill>
          <a:blip r:embed="rId3"/>
          <a:stretch/>
        </p:blipFill>
        <p:spPr>
          <a:xfrm>
            <a:off x="5208480" y="3948120"/>
            <a:ext cx="3524400" cy="2228760"/>
          </a:xfrm>
          <a:prstGeom prst="rect">
            <a:avLst/>
          </a:prstGeom>
          <a:ln w="0">
            <a:noFill/>
          </a:ln>
        </p:spPr>
      </p:pic>
      <p:sp>
        <p:nvSpPr>
          <p:cNvPr id="64" name="TextBox 12"/>
          <p:cNvSpPr/>
          <p:nvPr/>
        </p:nvSpPr>
        <p:spPr>
          <a:xfrm>
            <a:off x="4938120" y="4132440"/>
            <a:ext cx="41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 Light"/>
              </a:rPr>
              <a:t>Sugu grupējumi mežsaimniecībā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1574640" y="2049480"/>
            <a:ext cx="8619480" cy="4308480"/>
            <a:chOff x="1574640" y="2049480"/>
            <a:chExt cx="8619480" cy="4308480"/>
          </a:xfrm>
        </p:grpSpPr>
        <p:cxnSp>
          <p:nvCxnSpPr>
            <p:cNvPr id="67" name="_s10253"/>
            <p:cNvCxnSpPr>
              <a:stCxn id="68" idx="0"/>
              <a:endCxn id="69" idx="2"/>
            </p:cNvCxnSpPr>
            <p:nvPr/>
          </p:nvCxnSpPr>
          <p:spPr>
            <a:xfrm flipV="1" rot="16200000">
              <a:off x="6961680" y="2694240"/>
              <a:ext cx="862200" cy="3017520"/>
            </a:xfrm>
            <a:prstGeom prst="bentConnector3">
              <a:avLst>
                <a:gd name="adj1" fmla="val 2080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0" name="_s10252"/>
            <p:cNvCxnSpPr>
              <a:stCxn id="71" idx="0"/>
              <a:endCxn id="69" idx="2"/>
            </p:cNvCxnSpPr>
            <p:nvPr/>
          </p:nvCxnSpPr>
          <p:spPr>
            <a:xfrm flipV="1">
              <a:off x="5884200" y="3772080"/>
              <a:ext cx="3240" cy="8622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2" name="_s10251"/>
            <p:cNvCxnSpPr>
              <a:stCxn id="73" idx="0"/>
              <a:endCxn id="69" idx="2"/>
            </p:cNvCxnSpPr>
            <p:nvPr/>
          </p:nvCxnSpPr>
          <p:spPr>
            <a:xfrm flipH="1" flipV="1" rot="5400000">
              <a:off x="3946320" y="2696040"/>
              <a:ext cx="862200" cy="3014640"/>
            </a:xfrm>
            <a:prstGeom prst="bentConnector3">
              <a:avLst>
                <a:gd name="adj1" fmla="val 20802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69" name="_s10247"/>
            <p:cNvSpPr/>
            <p:nvPr/>
          </p:nvSpPr>
          <p:spPr>
            <a:xfrm>
              <a:off x="4591440" y="2049480"/>
              <a:ext cx="2585880" cy="1723320"/>
            </a:xfrm>
            <a:prstGeom prst="roundRect">
              <a:avLst>
                <a:gd name="adj" fmla="val 16667"/>
              </a:avLst>
            </a:prstGeom>
            <a:solidFill>
              <a:srgbClr val="5b9bd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Egles grupa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" name="_s10248"/>
            <p:cNvSpPr/>
            <p:nvPr/>
          </p:nvSpPr>
          <p:spPr>
            <a:xfrm>
              <a:off x="1574640" y="4634640"/>
              <a:ext cx="2585880" cy="1723320"/>
            </a:xfrm>
            <a:prstGeom prst="roundRect">
              <a:avLst>
                <a:gd name="adj" fmla="val 16667"/>
              </a:avLst>
            </a:prstGeom>
            <a:solidFill>
              <a:srgbClr val="5b9bd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Egle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" name="_s10249"/>
            <p:cNvSpPr/>
            <p:nvPr/>
          </p:nvSpPr>
          <p:spPr>
            <a:xfrm>
              <a:off x="4591440" y="4634640"/>
              <a:ext cx="2585880" cy="1723320"/>
            </a:xfrm>
            <a:prstGeom prst="roundRect">
              <a:avLst>
                <a:gd name="adj" fmla="val 16667"/>
              </a:avLst>
            </a:prstGeom>
            <a:solidFill>
              <a:srgbClr val="5b9bd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Citas egles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" name="_s10250"/>
            <p:cNvSpPr/>
            <p:nvPr/>
          </p:nvSpPr>
          <p:spPr>
            <a:xfrm>
              <a:off x="7608240" y="4634640"/>
              <a:ext cx="2585880" cy="1723320"/>
            </a:xfrm>
            <a:prstGeom prst="roundRect">
              <a:avLst>
                <a:gd name="adj" fmla="val 16667"/>
              </a:avLst>
            </a:prstGeom>
            <a:solidFill>
              <a:srgbClr val="5b9bd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Baltegle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02T09:22:32Z</dcterms:created>
  <dc:creator>Windows User</dc:creator>
  <dc:description/>
  <dc:language>en-US</dc:language>
  <cp:lastModifiedBy>VISC</cp:lastModifiedBy>
  <dcterms:modified xsi:type="dcterms:W3CDTF">2019-05-30T13:55:55Z</dcterms:modified>
  <cp:revision>70</cp:revision>
  <dc:subject/>
  <dc:title>PowerPoint Presentation</dc:title>
</cp:coreProperties>
</file>