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3B738-F780-4E8D-AB67-540AB72C8DCE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7AAD3-F792-4746-9A64-DB8EC5FF096F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EEC8C-C8D1-4C21-9EB4-F13A3AB329A0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F37D9-A4DE-4FD1-9449-48F63AB15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C1964-8B28-4760-950A-EA3D35E57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8562F-D7AB-4EB5-8ABA-73AECDB19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785F7-4D4C-4430-B759-B3F37095A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BF2DF-533E-4894-A91B-B77C39B11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D02F3-95C9-49AC-B3D9-6FAB0A1E3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951B3-5E52-45C1-A911-31725B942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DED79-A2EA-4035-A334-546C73540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C3350-5234-4480-A401-281D132E3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EBB43-F0E8-424F-B284-164A9B436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0631E-7C5C-4B1D-94E9-1873FA822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EABD2-C58B-4C2E-A1A3-A3E769D0D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61001-77CC-4F0F-A3E2-C0FC1819A1E5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51C10-92AF-4616-9455-80818AED9238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lob.lv/download/buritis_zilitem_melnajam_muskerajam.pdf" TargetMode="External"/><Relationship Id="rId2" Type="http://schemas.openxmlformats.org/officeDocument/2006/relationships/hyperlink" Target="http://www.lob.lv/download/buritis_zilitem_melnajam_muskerajam.pdf" TargetMode="External"/><Relationship Id="rId3" Type="http://schemas.openxmlformats.org/officeDocument/2006/relationships/hyperlink" Target="http://www.lob.lv/download/buritis_zilitem_melnajam_muskerajam.pdf" TargetMode="External"/><Relationship Id="rId4" Type="http://schemas.openxmlformats.org/officeDocument/2006/relationships/hyperlink" Target="http://www.lob.lv/download/buritis_zilitem_melnajam_muskerajam.pdf" TargetMode="External"/><Relationship Id="rId5" Type="http://schemas.openxmlformats.org/officeDocument/2006/relationships/hyperlink" Target="http://www.lob.lv/download/buritis_zilitem_melnajam_muskerajam.pdf" TargetMode="External"/><Relationship Id="rId6" Type="http://schemas.openxmlformats.org/officeDocument/2006/relationships/hyperlink" Target="http://www.lob.lv/download/buritis_zilitem_melnajam_muskerajam.pdf" TargetMode="External"/><Relationship Id="rId7" Type="http://schemas.openxmlformats.org/officeDocument/2006/relationships/hyperlink" Target="http://www.lob.lv/download/buritis_zilitem_melnajam_muskerajam.pdf" TargetMode="External"/><Relationship Id="rId8" Type="http://schemas.openxmlformats.org/officeDocument/2006/relationships/hyperlink" Target="http://www.latvijasdaba.lv/putni/parus-caeruleus-l/" TargetMode="External"/><Relationship Id="rId9" Type="http://schemas.openxmlformats.org/officeDocument/2006/relationships/hyperlink" Target="http://www.latvijasdaba.lv/putni/parus-caeruleus-l/" TargetMode="External"/><Relationship Id="rId10" Type="http://schemas.openxmlformats.org/officeDocument/2006/relationships/hyperlink" Target="http://www.latvijasdaba.lv/putni/parus-caeruleus-l/" TargetMode="External"/><Relationship Id="rId11" Type="http://schemas.openxmlformats.org/officeDocument/2006/relationships/hyperlink" Target="http://www.latvijasdaba.lv/putni/parus-caeruleus-l/" TargetMode="External"/><Relationship Id="rId1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zILZĪLĪ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Arial"/>
              </a:rPr>
              <a:t>Latvijas put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8" descr="C:\Users\User\AppData\Local\Microsoft\Windows\Temporary Internet Files\Content.IE5\8RKKZONO\MC900391474[1].wmf"/>
          <p:cNvPicPr/>
          <p:nvPr/>
        </p:nvPicPr>
        <p:blipFill>
          <a:blip r:embed="rId1"/>
          <a:stretch/>
        </p:blipFill>
        <p:spPr>
          <a:xfrm>
            <a:off x="6443640" y="1052640"/>
            <a:ext cx="1814400" cy="164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aug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97587A-26CD-473C-95A9-E181618C0C1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kreju formas un izmēr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457200" y="1600200"/>
          <a:ext cx="8229600" cy="336564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67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22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pic>
        <p:nvPicPr>
          <p:cNvPr id="73" name="Picture 24" descr="Pic1.png"/>
          <p:cNvPicPr/>
          <p:nvPr/>
        </p:nvPicPr>
        <p:blipFill>
          <a:blip r:embed="rId1"/>
          <a:stretch/>
        </p:blipFill>
        <p:spPr>
          <a:xfrm>
            <a:off x="1116000" y="3068640"/>
            <a:ext cx="1176480" cy="13176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5" descr="Pic2.png"/>
          <p:cNvPicPr/>
          <p:nvPr/>
        </p:nvPicPr>
        <p:blipFill>
          <a:blip r:embed="rId2"/>
          <a:stretch/>
        </p:blipFill>
        <p:spPr>
          <a:xfrm>
            <a:off x="3995640" y="3068640"/>
            <a:ext cx="1176480" cy="13176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6" descr="Pic3.png"/>
          <p:cNvPicPr/>
          <p:nvPr/>
        </p:nvPicPr>
        <p:blipFill>
          <a:blip r:embed="rId3"/>
          <a:stretch/>
        </p:blipFill>
        <p:spPr>
          <a:xfrm>
            <a:off x="6659640" y="3068640"/>
            <a:ext cx="1182600" cy="1322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aug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501E20-DFBA-448B-9D93-141F7C04F8A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zmantotie avo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://lv.wikipedia.org/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wiki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/Zilzīlī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5"/>
              </a:rPr>
              <a:t>http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6"/>
              </a:rPr>
              <a:t>://www.lob.lv/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7"/>
              </a:rPr>
              <a:t>download/buritis_zilitem_melnajam_muskerajam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8"/>
              </a:rPr>
              <a:t>http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9"/>
              </a:rPr>
              <a:t>://www.latvijasdaba.lv/putni/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10"/>
              </a:rPr>
              <a:t>parus-caeruleus-l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11"/>
              </a:rPr>
              <a:t>/</a:t>
            </a: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aug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F8A39A-25F4-4A28-B80B-66772F49A75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eradum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aug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9C2D3C-D940-4151-96AA-2CB514D4402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tvij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aug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FCA3E8-3806-4456-B2C9-DE88E996267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Iss rksturoju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6840" y="1599840"/>
            <a:ext cx="8147160" cy="42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ilzīlīte ir Latvijā ļoti bieži sastopama zvirbuļveidīgo kārtas putnu sug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zdala 11 zilzīlīšu pasug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3" descr="bt2.png"/>
          <p:cNvPicPr/>
          <p:nvPr/>
        </p:nvPicPr>
        <p:blipFill>
          <a:blip r:embed="rId1"/>
          <a:stretch/>
        </p:blipFill>
        <p:spPr>
          <a:xfrm>
            <a:off x="2050920" y="4437000"/>
            <a:ext cx="5907240" cy="2095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aug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C1606F-CD2D-4115-BD01-2424313ECB6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zplatīb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51228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100" spc="-1" strike="noStrike">
                <a:solidFill>
                  <a:srgbClr val="000000"/>
                </a:solidFill>
                <a:latin typeface="Arial"/>
              </a:rPr>
              <a:t>Visā Eiropā, izņemot pašus ziemeļus un augstkalnu apgabalu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100" spc="-1" strike="noStrike">
                <a:solidFill>
                  <a:srgbClr val="000000"/>
                </a:solidFill>
                <a:latin typeface="Arial"/>
              </a:rPr>
              <a:t>Kanāriju salas, Ziemeļāfrika un Mazāzija un vietām citur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100" spc="-1" strike="noStrike">
                <a:solidFill>
                  <a:srgbClr val="000000"/>
                </a:solidFill>
                <a:latin typeface="Arial"/>
              </a:rPr>
              <a:t>Ziemo ligzdošanas areālā, tomēr daļa putnu rudenī klejo uz dienvidiem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zilzilite2.png"/>
          <p:cNvPicPr/>
          <p:nvPr/>
        </p:nvPicPr>
        <p:blipFill>
          <a:blip r:embed="rId1"/>
          <a:stretch/>
        </p:blipFill>
        <p:spPr>
          <a:xfrm>
            <a:off x="6027840" y="0"/>
            <a:ext cx="3116160" cy="3638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aug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5CFEF2-E96C-4191-BCBA-74DBA69BED4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zska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826920" y="1628640"/>
            <a:ext cx="7561440" cy="23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Maza izmēra zīlīte ar tievu un īsu knābī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Ķermeņa garums 11—12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Svars 7,5—14,7 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aug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F6D1DD-9E3B-4459-8A7D-D17E7F52146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rāsoju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684000" y="1600200"/>
            <a:ext cx="8002440" cy="4781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Spilgti zila galvas augšdaļa, kas kontrastē ar zīlītēm raksturīgajiem baltajiem vaigi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Sejas zīmējumu veido tumši zilas spalv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Spārni, aste un pakausis zilgani, mugura olīvzaļ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Vēders dzeltens ar nelielu tumšu josl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Knābis melns, kājas pelēk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aug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A9F2E2-856F-4A36-BA22-5FFBC0338E6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ūrītis zīlītē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33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ūrīšus izvieto dažādos mežos, parkos, dārzos un apstādījum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žos tajos visbiežāk ligzdo lielā zīlīte, bet retāk cekulzīlīte un zilzīlī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ūrīšiem noteikti jābūt atveramiem, lai tos varētu regulāri iztīrī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3" descr="strazds5.png"/>
          <p:cNvPicPr/>
          <p:nvPr/>
        </p:nvPicPr>
        <p:blipFill>
          <a:blip r:embed="rId1"/>
          <a:stretch/>
        </p:blipFill>
        <p:spPr>
          <a:xfrm>
            <a:off x="6443640" y="4581360"/>
            <a:ext cx="1511280" cy="1919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aug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293609-8D0F-4C15-B765-29475E47EA0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ūrīša izgatavoš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32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Būrīši jāizgatavo no 2–2,5 cm bieziem sausiem neēvelētiem dēļi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Jumtiņu ieteicams nosegt ar skārdu vai ruberoī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Būrīša dibens vienmēr jāpienaglo starp sienām, nevis no apakš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6" descr="Pt2.png"/>
          <p:cNvPicPr/>
          <p:nvPr/>
        </p:nvPicPr>
        <p:blipFill>
          <a:blip r:embed="rId1"/>
          <a:stretch/>
        </p:blipFill>
        <p:spPr>
          <a:xfrm>
            <a:off x="3203640" y="1773360"/>
            <a:ext cx="5716440" cy="4286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aug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B619DF-0709-4795-82D3-3B4791FC4CD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ūrītis un tā novietoš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Content Placeholder 36" descr="Picture1.png"/>
          <p:cNvPicPr/>
          <p:nvPr/>
        </p:nvPicPr>
        <p:blipFill>
          <a:blip r:embed="rId1"/>
          <a:stretch/>
        </p:blipFill>
        <p:spPr>
          <a:xfrm>
            <a:off x="790560" y="1724040"/>
            <a:ext cx="3371760" cy="427824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ābūt atveram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aug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3D7D3E-ADB1-4398-9A42-F37278D6120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ūrīša izmēr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aug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7BF8B5-7345-4CEB-A231-223F623BF93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31T08:57:42Z</dcterms:created>
  <dc:creator>User</dc:creator>
  <dc:description/>
  <dc:language>en-US</dc:language>
  <cp:lastModifiedBy>peterisz</cp:lastModifiedBy>
  <dcterms:modified xsi:type="dcterms:W3CDTF">2013-02-04T14:42:06Z</dcterms:modified>
  <cp:revision>112</cp:revision>
  <dc:subject/>
  <dc:title>Slide 1</dc:title>
</cp:coreProperties>
</file>