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D0365-B228-4D38-B855-D95F4AFE3BC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C9A5F-0B05-4C9D-B1B8-366C1414E3B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088B3-2595-4ECA-B95E-0D6CE887967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C700-7DF4-480F-821D-07D2977522B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46C2-6841-45B4-B4D5-D2F725B8C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6E59-92B6-4BDE-B70B-C0D9F89D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7AF8-DF08-4293-934B-5BDA4C8D7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A8B2-4F66-4505-9A11-C60CC2EA3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DCC6-2B98-4C2D-A00C-BF19B026D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85D5-C28A-415F-9053-CCDB6D8B6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0AB5-395A-4DBC-8CE1-53D8418D5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A5DA-1798-47BA-8A02-A0AA5AE81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96A2-17EB-4CFE-9F7C-835648A78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1E2F-73D7-45A3-AE91-15864135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9A90-307F-4289-9B63-F2146AC3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3CD9-C696-445D-86A8-A5E6231F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E6503-FB19-4412-BAAF-31F046FF2485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84FE9-3659-4B39-9394-63B9CDCAC37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putni.lv/" TargetMode="External"/><Relationship Id="rId2" Type="http://schemas.openxmlformats.org/officeDocument/2006/relationships/hyperlink" Target="http://www.putni.lv/" TargetMode="External"/><Relationship Id="rId3" Type="http://schemas.openxmlformats.org/officeDocument/2006/relationships/hyperlink" Target="http://www.putni.lv/" TargetMode="External"/><Relationship Id="rId4" Type="http://schemas.openxmlformats.org/officeDocument/2006/relationships/hyperlink" Target="http://www.putni.lv/" TargetMode="External"/><Relationship Id="rId5" Type="http://schemas.openxmlformats.org/officeDocument/2006/relationships/hyperlink" Target="http://www.putni.lv/" TargetMode="External"/><Relationship Id="rId6" Type="http://schemas.openxmlformats.org/officeDocument/2006/relationships/hyperlink" Target="http://www.lob.lv/download/buritis_zilitem_melnajam_muskerajam.pdf" TargetMode="External"/><Relationship Id="rId7" Type="http://schemas.openxmlformats.org/officeDocument/2006/relationships/hyperlink" Target="http://www.lob.lv/download/buritis_zilitem_melnajam_muskerajam.pdf" TargetMode="External"/><Relationship Id="rId8" Type="http://schemas.openxmlformats.org/officeDocument/2006/relationships/hyperlink" Target="http://www.lob.lv/download/buritis_zilitem_melnajam_muskerajam.pdf" TargetMode="External"/><Relationship Id="rId9" Type="http://schemas.openxmlformats.org/officeDocument/2006/relationships/hyperlink" Target="http://www.lob.lv/download/buritis_zilitem_melnajam_muskerajam.pdf" TargetMode="External"/><Relationship Id="rId10" Type="http://schemas.openxmlformats.org/officeDocument/2006/relationships/hyperlink" Target="http://www.lob.lv/download/buritis_zilitem_melnajam_muskerajam.pdf" TargetMode="External"/><Relationship Id="rId11" Type="http://schemas.openxmlformats.org/officeDocument/2006/relationships/hyperlink" Target="http://www.lob.lv/download/buritis_zilitem_melnajam_muskerajam.pdf" TargetMode="External"/><Relationship Id="rId12" Type="http://schemas.openxmlformats.org/officeDocument/2006/relationships/hyperlink" Target="http://www.lob.lv/download/buritis_zilitem_melnajam_muskerajam.pdf" TargetMode="External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ājas straz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Latvijas put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DEBA-6C0F-46C3-8BA7-AFC8A6E5420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gatav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i jāizgatavo no 2–2,5 cm bieziem sausiem dēļ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umtiņu ieteicams nosegt ar skārdu vai ruberoī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a dibens vienmēr jāpienaglo starp sienām, nevis no apakš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Pt3.png"/>
          <p:cNvPicPr/>
          <p:nvPr/>
        </p:nvPicPr>
        <p:blipFill>
          <a:blip r:embed="rId1"/>
          <a:stretch/>
        </p:blipFill>
        <p:spPr>
          <a:xfrm>
            <a:off x="2987640" y="1628640"/>
            <a:ext cx="5830920" cy="428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A71D-4AF2-423A-89FF-C5C67B29359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mantotie avo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lv.wikipedia.org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iki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Mājas_straz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://www.lob.lv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download/buritis_majas_strazds_svire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://www.latvijasdaba.lv/putni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sturnus-vulgaris-l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2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C:\Users\User\AppData\Local\Microsoft\Windows\Temporary Internet Files\Content.IE5\5K36RP0L\MC900431604[1].png"/>
          <p:cNvPicPr/>
          <p:nvPr/>
        </p:nvPicPr>
        <p:blipFill>
          <a:blip r:embed="rId13"/>
          <a:stretch/>
        </p:blipFill>
        <p:spPr>
          <a:xfrm>
            <a:off x="5435640" y="42210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B081-1583-4ADE-9126-F49DCC6E54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eradu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0DD7-D295-48FE-9040-D84C28C5F54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odukc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A9F3-DF98-4DF6-BA5D-3F8E75F8363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ug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972A-EE12-4204-ACFE-43F46B36221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Īss raksturo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599840"/>
            <a:ext cx="814716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ājas strazds ir zvirbuļveidīgo kārtas dziedātājput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 ir viens no visbiežāk sastopamajiem putniem pasaul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strazds2.png"/>
          <p:cNvPicPr/>
          <p:nvPr/>
        </p:nvPicPr>
        <p:blipFill>
          <a:blip r:embed="rId1"/>
          <a:stretch/>
        </p:blipFill>
        <p:spPr>
          <a:xfrm>
            <a:off x="3780000" y="3284640"/>
            <a:ext cx="5111640" cy="247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37CD-1C71-43D6-AD14-6756E6D8270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sk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826920" y="1412640"/>
            <a:ext cx="55454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spalvojums melns ar tonētu spīdumu zaļā vai purpura krāsā ar nelieliem gaišiem raibumiņ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rums 19-22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ārnu atvērums 37-42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ars 60 - 90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6438-81D7-4D51-A4E1-9C2ECFF1E1D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aņ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4000" y="1600200"/>
            <a:ext cx="8002440" cy="456552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trazdu dziesmas ir diezgan sarežģītas un izkoptas, bagātinātas ar dažādiem svilpieniem, klakšķiem un čirkstoņā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ājas strazdam ir bara sasaukšanās sauciens, briesmu sauciens, uzbrukuma sauciens, vienkārši vidžināšana un kopošanās sauci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ājas strazds var atdarināt citus put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3C90-1344-45EC-992F-7686BB42652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ēt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48355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ājas strazdi ir visēdā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zdošanas laikā tie ir izteikti kukaiņēdāj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idzoties mazuļu barošanai, mājas strazdi labprāt barojas arī ar graudiem, sēklām, augļiem, ogām, ziedu nektāru u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strazds3.png"/>
          <p:cNvPicPr/>
          <p:nvPr/>
        </p:nvPicPr>
        <p:blipFill>
          <a:blip r:embed="rId1"/>
          <a:stretch/>
        </p:blipFill>
        <p:spPr>
          <a:xfrm>
            <a:off x="5580000" y="1700280"/>
            <a:ext cx="2879640" cy="4083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A0C0-CCD1-452E-89C9-B3340F1A94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Būrīts majas strazd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v ieteicams zem skrejas vai citur pie būra piestiprināt laktiņ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āizvieto vismaz 4–5 metru augstumā, pie koka, kārts vai ēkas sie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teicams gatavot atveramus, ar noņemamu jumtiņ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 izlikt tuvu citu cit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strazds5.png"/>
          <p:cNvPicPr/>
          <p:nvPr/>
        </p:nvPicPr>
        <p:blipFill>
          <a:blip r:embed="rId1"/>
          <a:stretch/>
        </p:blipFill>
        <p:spPr>
          <a:xfrm>
            <a:off x="6300720" y="4653000"/>
            <a:ext cx="1511280" cy="1919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F6CA-C2F7-4F16-AB83-B7191EBA87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reju formas un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1600200"/>
          <a:ext cx="7931160" cy="3844800"/>
        </p:xfrm>
        <a:graphic>
          <a:graphicData uri="http://schemas.openxmlformats.org/drawingml/2006/table">
            <a:tbl>
              <a:tblPr/>
              <a:tblGrid>
                <a:gridCol w="1882800"/>
                <a:gridCol w="2016000"/>
                <a:gridCol w="2160720"/>
                <a:gridCol w="1871640"/>
              </a:tblGrid>
              <a:tr h="14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87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65" name="Picture 24" descr="Pic1.png"/>
          <p:cNvPicPr/>
          <p:nvPr/>
        </p:nvPicPr>
        <p:blipFill>
          <a:blip r:embed="rId1"/>
          <a:stretch/>
        </p:blipFill>
        <p:spPr>
          <a:xfrm>
            <a:off x="826920" y="3860640"/>
            <a:ext cx="1176480" cy="1317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5" descr="Pic2.png"/>
          <p:cNvPicPr/>
          <p:nvPr/>
        </p:nvPicPr>
        <p:blipFill>
          <a:blip r:embed="rId2"/>
          <a:stretch/>
        </p:blipFill>
        <p:spPr>
          <a:xfrm>
            <a:off x="2843280" y="3860640"/>
            <a:ext cx="1176120" cy="1317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6" descr="Pic3.png"/>
          <p:cNvPicPr/>
          <p:nvPr/>
        </p:nvPicPr>
        <p:blipFill>
          <a:blip r:embed="rId3"/>
          <a:stretch/>
        </p:blipFill>
        <p:spPr>
          <a:xfrm>
            <a:off x="4859280" y="3860640"/>
            <a:ext cx="1182600" cy="132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3C04-51AC-421C-9DB9-41378FB0905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tis un tā novie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zāķējama stie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Content Placeholder 39" descr="Pic4.png"/>
          <p:cNvPicPr/>
          <p:nvPr/>
        </p:nvPicPr>
        <p:blipFill>
          <a:blip r:embed="rId1"/>
          <a:stretch/>
        </p:blipFill>
        <p:spPr>
          <a:xfrm>
            <a:off x="4888080" y="1720800"/>
            <a:ext cx="3558960" cy="428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695B-2C39-4569-91DF-705550946B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99B2-B6D9-4EBF-BF7C-ABDCA3D2B5F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8:57:42Z</dcterms:created>
  <dc:creator>User</dc:creator>
  <dc:description/>
  <dc:language>en-US</dc:language>
  <cp:lastModifiedBy>peterisz</cp:lastModifiedBy>
  <dcterms:modified xsi:type="dcterms:W3CDTF">2013-02-04T14:39:05Z</dcterms:modified>
  <cp:revision>108</cp:revision>
  <dc:subject/>
  <dc:title>Slide 1</dc:title>
</cp:coreProperties>
</file>