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C3F05-DCB2-4405-95DD-414E7814061F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E712F-A3D8-4D98-8583-22295156FE69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4D6E7-D7F9-492D-A167-4FDF549B6BD0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EEA22-D07A-4A5D-87A1-5F8169DF46DA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16E61-A075-4C03-A571-E2B715C9E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90F18-F4DA-47CF-87E8-686C2185D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227BC-F182-40D6-9CA3-B103A6F2A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F90DC-28F0-4C41-A8EC-E43A4F2DA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E7DBA-1F31-4DA9-8F8F-45C1923C9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4BAB8-7F8C-4F5C-8EB9-947E30B97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22EB2-6263-4269-B92B-8761B1872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3A808-C4F0-4757-A600-D2B30601B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A4943-D940-45CC-8908-92A9FE716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12A73-9A41-44D8-81CF-362D46786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44897-1BFA-4A69-89CC-ACB939FC1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F7CB3-7B2F-455B-9EE3-B2ED77A71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07A06-3695-4693-B817-BB8D66B068DF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BA83A-D16B-4496-B83D-F3CC5134AFC0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putni.lv/" TargetMode="External"/><Relationship Id="rId2" Type="http://schemas.openxmlformats.org/officeDocument/2006/relationships/hyperlink" Target="http://www.putni.lv/" TargetMode="External"/><Relationship Id="rId3" Type="http://schemas.openxmlformats.org/officeDocument/2006/relationships/hyperlink" Target="http://www.putni.lv/" TargetMode="External"/><Relationship Id="rId4" Type="http://schemas.openxmlformats.org/officeDocument/2006/relationships/hyperlink" Target="http://www.putni.lv/" TargetMode="External"/><Relationship Id="rId5" Type="http://schemas.openxmlformats.org/officeDocument/2006/relationships/hyperlink" Target="http://www.putni.lv/" TargetMode="External"/><Relationship Id="rId6" Type="http://schemas.openxmlformats.org/officeDocument/2006/relationships/hyperlink" Target="http://www.lob.lv/download/buritis_zilitem_melnajam_muskerajam.pdf" TargetMode="External"/><Relationship Id="rId7" Type="http://schemas.openxmlformats.org/officeDocument/2006/relationships/hyperlink" Target="http://www.lob.lv/download/buritis_zilitem_melnajam_muskerajam.pdf" TargetMode="External"/><Relationship Id="rId8" Type="http://schemas.openxmlformats.org/officeDocument/2006/relationships/hyperlink" Target="http://www.lob.lv/download/buritis_zilitem_melnajam_muskerajam.pdf" TargetMode="External"/><Relationship Id="rId9" Type="http://schemas.openxmlformats.org/officeDocument/2006/relationships/hyperlink" Target="http://www.lob.lv/download/buritis_zilitem_melnajam_muskerajam.pdf" TargetMode="External"/><Relationship Id="rId10" Type="http://schemas.openxmlformats.org/officeDocument/2006/relationships/hyperlink" Target="http://www.lob.lv/download/buritis_zilitem_melnajam_muskerajam.pdf" TargetMode="External"/><Relationship Id="rId11" Type="http://schemas.openxmlformats.org/officeDocument/2006/relationships/hyperlink" Target="http://www.lob.lv/download/buritis_zilitem_melnajam_muskerajam.pdf" TargetMode="External"/><Relationship Id="rId12" Type="http://schemas.openxmlformats.org/officeDocument/2006/relationships/hyperlink" Target="http://www.lob.lv/download/buritis_zilitem_melnajam_muskerajam.pdf" TargetMode="External"/><Relationship Id="rId13" Type="http://schemas.openxmlformats.org/officeDocument/2006/relationships/image" Target="../media/image9.png"/><Relationship Id="rId1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ājas straz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Arial"/>
              </a:rPr>
              <a:t>Latvijas put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4BEAD-4177-468D-AD18-F552D0A0B2D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ūrīša izgatavoš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32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Būrīši jāizgatavo no 2–2,5 cm bieziem sausiem dēļi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Jumtiņu ieteicams nosegt ar skārdu vai ruberoī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Būrīša dibens vienmēr jāpienaglo starp sienām, nevis no apakš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Pt3.png"/>
          <p:cNvPicPr/>
          <p:nvPr/>
        </p:nvPicPr>
        <p:blipFill>
          <a:blip r:embed="rId1"/>
          <a:stretch/>
        </p:blipFill>
        <p:spPr>
          <a:xfrm>
            <a:off x="2987640" y="1628640"/>
            <a:ext cx="5830920" cy="4286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E0AFA-F10E-4EC6-A785-FB808F163FC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zmantotie avo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599840"/>
            <a:ext cx="8229600" cy="29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://lv.wikipedia.org/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wiki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/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5"/>
              </a:rPr>
              <a:t>Mājas_straz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6"/>
              </a:rPr>
              <a:t>http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7"/>
              </a:rPr>
              <a:t>://www.lob.lv/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8"/>
              </a:rPr>
              <a:t>download/buritis_majas_strazds_svire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9"/>
              </a:rPr>
              <a:t>http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10"/>
              </a:rPr>
              <a:t>://www.latvijasdaba.lv/putni/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11"/>
              </a:rPr>
              <a:t>sturnus-vulgaris-l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12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C:\Users\User\AppData\Local\Microsoft\Windows\Temporary Internet Files\Content.IE5\5K36RP0L\MC900431604[1].png"/>
          <p:cNvPicPr/>
          <p:nvPr/>
        </p:nvPicPr>
        <p:blipFill>
          <a:blip r:embed="rId13"/>
          <a:stretch/>
        </p:blipFill>
        <p:spPr>
          <a:xfrm>
            <a:off x="5435640" y="422100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1054F-A6E6-43C8-BF6A-5102CFF3532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eradum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B6211-CE3E-496E-A386-DB8A317B273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produkci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21231-15D5-49CF-A3EF-1870BB601E3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sug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8EB9A-F918-471F-8A32-E437AE4BEEA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Īss raksturoju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6840" y="1599840"/>
            <a:ext cx="8147160" cy="24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ājas strazds ir zvirbuļveidīgo kārtas dziedātājput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s ir viens no visbiežāk sastopamajiem putniem pasaul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strazds2.png"/>
          <p:cNvPicPr/>
          <p:nvPr/>
        </p:nvPicPr>
        <p:blipFill>
          <a:blip r:embed="rId1"/>
          <a:stretch/>
        </p:blipFill>
        <p:spPr>
          <a:xfrm>
            <a:off x="3780000" y="3284640"/>
            <a:ext cx="5111640" cy="2473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60413-0365-401E-9B73-368427936FA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zska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826920" y="1412640"/>
            <a:ext cx="554544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spalvojums melns ar tonētu spīdumu zaļā vai purpura krāsā ar nelieliem gaišiem raibumiņi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rums 19-22 c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ārnu atvērums 37-42 c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vars 60 - 90 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57974-9B86-470C-BD49-425AF83D2EF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kaņ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84000" y="1600200"/>
            <a:ext cx="8002440" cy="4565520"/>
          </a:xfrm>
          <a:prstGeom prst="rect">
            <a:avLst/>
          </a:prstGeom>
          <a:solidFill>
            <a:srgbClr val="b7dee8"/>
          </a:solidFill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Strazdu dziesmas ir diezgan sarežģītas un izkoptas, bagātinātas ar dažādiem svilpieniem, klakšķiem un čirkstoņā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Mājas strazdam ir bara sasaukšanās sauciens, briesmu sauciens, uzbrukuma sauciens, vienkārši vidžināšana un kopošanās sauci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Mājas strazds var atdarināt citus put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C01C4-D22C-4431-80B0-D8BA212D950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ēt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483552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ājas strazdi ir visēdāj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zdošanas laikā tie ir izteikti kukaiņēdāj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idzoties mazuļu barošanai, mājas strazdi labprāt barojas arī ar graudiem, sēklām, augļiem, ogām, ziedu nektāru u.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3" descr="strazds3.png"/>
          <p:cNvPicPr/>
          <p:nvPr/>
        </p:nvPicPr>
        <p:blipFill>
          <a:blip r:embed="rId1"/>
          <a:stretch/>
        </p:blipFill>
        <p:spPr>
          <a:xfrm>
            <a:off x="5580000" y="1700280"/>
            <a:ext cx="2879640" cy="4083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B1891-27A2-4EDD-ACE3-540488BCB0A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Būrīts majas strazd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59984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v ieteicams zem skrejas vai citur pie būra piestiprināt laktiņ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āizvieto vismaz 4–5 metru augstumā, pie koka, kārts vai ēkas sien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eteicams gatavot atveramus, ar noņemamu jumtiņ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r izlikt tuvu citu cit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3" descr="strazds5.png"/>
          <p:cNvPicPr/>
          <p:nvPr/>
        </p:nvPicPr>
        <p:blipFill>
          <a:blip r:embed="rId1"/>
          <a:stretch/>
        </p:blipFill>
        <p:spPr>
          <a:xfrm>
            <a:off x="6300720" y="4653000"/>
            <a:ext cx="1511280" cy="1919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2410F-A630-4EBB-B87F-A72490AE273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kreju formas un izmēr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457200" y="1600200"/>
          <a:ext cx="7931160" cy="3844800"/>
        </p:xfrm>
        <a:graphic>
          <a:graphicData uri="http://schemas.openxmlformats.org/drawingml/2006/table">
            <a:tbl>
              <a:tblPr/>
              <a:tblGrid>
                <a:gridCol w="1882800"/>
                <a:gridCol w="2016000"/>
                <a:gridCol w="2160720"/>
                <a:gridCol w="1871640"/>
              </a:tblGrid>
              <a:tr h="144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87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pic>
        <p:nvPicPr>
          <p:cNvPr id="65" name="Picture 24" descr="Pic1.png"/>
          <p:cNvPicPr/>
          <p:nvPr/>
        </p:nvPicPr>
        <p:blipFill>
          <a:blip r:embed="rId1"/>
          <a:stretch/>
        </p:blipFill>
        <p:spPr>
          <a:xfrm>
            <a:off x="826920" y="3860640"/>
            <a:ext cx="1176480" cy="1317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5" descr="Pic2.png"/>
          <p:cNvPicPr/>
          <p:nvPr/>
        </p:nvPicPr>
        <p:blipFill>
          <a:blip r:embed="rId2"/>
          <a:stretch/>
        </p:blipFill>
        <p:spPr>
          <a:xfrm>
            <a:off x="2843280" y="3860640"/>
            <a:ext cx="1176120" cy="13179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6" descr="Pic3.png"/>
          <p:cNvPicPr/>
          <p:nvPr/>
        </p:nvPicPr>
        <p:blipFill>
          <a:blip r:embed="rId3"/>
          <a:stretch/>
        </p:blipFill>
        <p:spPr>
          <a:xfrm>
            <a:off x="4859280" y="3860640"/>
            <a:ext cx="1182600" cy="132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9AC12-C81B-4093-B7E1-7A9866282D7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ūrītis un tā novietoš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izāķējama stie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Content Placeholder 39" descr="Pic4.png"/>
          <p:cNvPicPr/>
          <p:nvPr/>
        </p:nvPicPr>
        <p:blipFill>
          <a:blip r:embed="rId1"/>
          <a:stretch/>
        </p:blipFill>
        <p:spPr>
          <a:xfrm>
            <a:off x="4888080" y="1720800"/>
            <a:ext cx="3558960" cy="4284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CDCF4-5195-454C-8B5F-18BF234E298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8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ūrīša izmēr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1B0D9-061A-47E6-BF86-AF2EAE5F99C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31T08:57:42Z</dcterms:created>
  <dc:creator>User</dc:creator>
  <dc:description/>
  <dc:language>en-US</dc:language>
  <cp:lastModifiedBy>peterisz</cp:lastModifiedBy>
  <dcterms:modified xsi:type="dcterms:W3CDTF">2013-02-04T14:39:05Z</dcterms:modified>
  <cp:revision>108</cp:revision>
  <dc:subject/>
  <dc:title>Slide 1</dc:title>
</cp:coreProperties>
</file>