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8099-7A5D-4578-A440-3FFF2B7F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E3A9-220E-4E56-BE50-96C7DC18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BE31-7703-4486-9F0F-9655C3B4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B3A4-97D8-404E-A541-BC9DD8B0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12B-FAE9-4C0C-851D-6A62B261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510E-953D-4E2C-84E1-B7F2E6D5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FF3E-6DA8-474D-8F76-7820FF33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1C9C-5DF1-44B3-A798-5D390F93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DA2C-9BAC-4E4A-8284-263562CE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59D2-F593-4254-9AB8-88EDA16D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1C66-3B65-45D1-AB83-A90E5061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D6A9-B72F-420D-85E8-A1F29C89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B8D9-104F-401C-9263-A00EF95A2F16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ut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98989"/>
                </a:solidFill>
                <a:latin typeface="Arial"/>
              </a:rPr>
              <a:t>Dažādās valod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zvirbu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sser domesti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oduvarb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naminis žvirb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house sp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Hausspe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овой вороб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Lielā 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rasva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didži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great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Kohl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си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Sturnus vulg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uldno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varnė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common sta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caeru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sini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mėlyn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blue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– Blau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зор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Apus a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lja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kliedzē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к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9:17:07Z</dcterms:created>
  <dc:creator>User</dc:creator>
  <dc:description/>
  <dc:language>en-US</dc:language>
  <cp:lastModifiedBy>User</cp:lastModifiedBy>
  <dcterms:modified xsi:type="dcterms:W3CDTF">2012-12-13T17:57:39Z</dcterms:modified>
  <cp:revision>9</cp:revision>
  <dc:subject/>
  <dc:title>Slide 1</dc:title>
</cp:coreProperties>
</file>