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9D88-A3FC-4D10-8356-1F7DBBE33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34EB-6B7F-4C0D-AFCC-2449209C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C039-858E-4178-A19C-BB7C7FE94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574B-09D2-4750-96B7-BBF5E6089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BCFA-7E0A-4DAE-88DF-D79C2C8F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332C-E9CD-478D-AAE0-BB934FF2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B2D6-F7DC-4E4C-AFBC-267BEFE1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14E5-4925-4DD7-B85E-0912F0D8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1441-F3C3-4F07-BEBC-9484B62A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9824-9CA4-4D65-B0E7-689F9632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E78F-225E-4E1E-A2C7-F92C4506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5152-22AB-400D-AF30-53B7FE3F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5BD1-3C10-46D2-B5F7-BE39D9A67715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Put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898989"/>
                </a:solidFill>
                <a:latin typeface="Arial"/>
              </a:rPr>
              <a:t>Dažādās valodā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Mājas zvirbul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sser domesti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koduvarbl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naminis žvirb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house spa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Haussper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овой вороб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Lielā 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rus maj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rasvati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didžioji zy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great 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Kohlme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ая сини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Mājas straz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Sturnus vulg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kuldnok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varnė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common star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вор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il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rus caeru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siniti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mėlynoji zy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blue 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– Blaume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зоре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Svī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Apus a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ilja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kliedzēj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screa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crea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к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09:17:07Z</dcterms:created>
  <dc:creator>User</dc:creator>
  <dc:description/>
  <dc:language>en-US</dc:language>
  <cp:lastModifiedBy>User</cp:lastModifiedBy>
  <dcterms:modified xsi:type="dcterms:W3CDTF">2012-12-13T17:57:39Z</dcterms:modified>
  <cp:revision>9</cp:revision>
  <dc:subject/>
  <dc:title>Slide 1</dc:title>
</cp:coreProperties>
</file>