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6473-EF11-410B-BC50-0CAE92C220C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924F-E21D-48E5-8DF9-68B167C658C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11E7-3FB5-4065-80AE-12372FE2206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948E-0DFB-4196-A971-F525C82826C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E081-C7E0-4D69-9E4C-B683469D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62F3-F3FB-4A45-B7C9-EDAFA3AF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C66E-1837-4409-A33A-46F2764C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DD2-B988-41F4-ACAF-94CF9575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683B-2611-426A-9683-7FC47FAD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1417-8FB8-42F8-8201-659B6838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AE64-20C7-47F2-B00C-664E9CAA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5100-C267-43F7-9C1B-25421188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1695-AFCB-45E2-8E00-A7C4D8B5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4531-5DC4-41EA-B148-B8C24F41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9234-7954-4098-96E3-36517999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D169-E560-4100-A13E-528C33A7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07D9-9460-46CF-9F84-86DA2F08131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3DA8-BBC1-4D99-9871-1E327C62C77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atvijasdaba.lv/putni/apus-apus-l/" TargetMode="External"/><Relationship Id="rId7" Type="http://schemas.openxmlformats.org/officeDocument/2006/relationships/hyperlink" Target="http://www.latvijasdaba.lv/putni/apus-apus-l/" TargetMode="External"/><Relationship Id="rId8" Type="http://schemas.openxmlformats.org/officeDocument/2006/relationships/hyperlink" Target="http://www.latvijasdaba.lv/putni/apus-apus-l/" TargetMode="External"/><Relationship Id="rId9" Type="http://schemas.openxmlformats.org/officeDocument/2006/relationships/hyperlink" Target="http://www.latvijasdaba.lv/putni/apus-apus-l/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User\AppData\Local\Microsoft\Windows\Temporary Internet Files\Content.IE5\5MBYCT9Z\MC900186210[1].wmf"/>
          <p:cNvPicPr/>
          <p:nvPr/>
        </p:nvPicPr>
        <p:blipFill>
          <a:blip r:embed="rId1"/>
          <a:stretch/>
        </p:blipFill>
        <p:spPr>
          <a:xfrm>
            <a:off x="6732720" y="2421000"/>
            <a:ext cx="181440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E9D1B-E4AD-48F4-99D7-C563991B02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t1.png"/>
          <p:cNvPicPr/>
          <p:nvPr/>
        </p:nvPicPr>
        <p:blipFill>
          <a:blip r:embed="rId1"/>
          <a:stretch/>
        </p:blipFill>
        <p:spPr>
          <a:xfrm>
            <a:off x="2411280" y="2133720"/>
            <a:ext cx="593568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CBF6E-6A1D-448A-85BD-168F8A60DE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www.vietas.lv/index.php?p=10&amp;id=1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apus-ap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1EB54-A0BA-4DAD-93C4-0809F7F2C1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2A24F-5B69-4631-97E7-1C63B25C7B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701D5-4792-4F6F-9103-74B36A0ABD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62864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spalvojums rūsgani melns ar nelielu metāliska spīduma piede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kaklē blāvi netīri balts plank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unajiem putniem arī citur uz segspalvu galiņiem un lidspalvu maliņām ir baltu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svire5.png"/>
          <p:cNvPicPr/>
          <p:nvPr/>
        </p:nvPicPr>
        <p:blipFill>
          <a:blip r:embed="rId1"/>
          <a:stretch/>
        </p:blipFill>
        <p:spPr>
          <a:xfrm>
            <a:off x="5796000" y="1773360"/>
            <a:ext cx="2736720" cy="39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7E6C6-FA25-4486-97D6-FFBCF71459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īre ir Latvijā vienīgā sastopamā svīr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ieži tiek jauktas ar bezdelīg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svire6.png"/>
          <p:cNvPicPr/>
          <p:nvPr/>
        </p:nvPicPr>
        <p:blipFill>
          <a:blip r:embed="rId1"/>
          <a:stretch/>
        </p:blipFill>
        <p:spPr>
          <a:xfrm>
            <a:off x="1835280" y="3860640"/>
            <a:ext cx="597672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F14A4-057E-45ED-8737-D32FA0AC34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z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1600200"/>
            <a:ext cx="446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 nišas, iedobes augstceltņu sienās, spraugas zem daudzstāvu māju palodzēm un pažob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 arī dabiskos un dzeņu kaltos koku dob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57F0B-93E1-487F-A0BA-7D3F477A68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zīvesve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pš seniem laikiem svīres mitinās līdzās cilvēkiem – gan lauku apvidos, gan pilsēt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zemes vai uz kādas citas lēzenas virsmas nolaižas tikai ligzdošanas period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d un arī izguļas lidoj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zeras lidojumā, pasmeļot ūdeni no ezera, upes vai dī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B0710-9DAC-4612-8E89-00DCF1134D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ītis svi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7139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588000" y="371628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A32A8-FF9A-462F-BD99-C045B296A8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ic2.png"/>
          <p:cNvPicPr/>
          <p:nvPr/>
        </p:nvPicPr>
        <p:blipFill>
          <a:blip r:embed="rId2"/>
          <a:stretch/>
        </p:blipFill>
        <p:spPr>
          <a:xfrm>
            <a:off x="399564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ic3.png"/>
          <p:cNvPicPr/>
          <p:nvPr/>
        </p:nvPicPr>
        <p:blipFill>
          <a:blip r:embed="rId3"/>
          <a:stretch/>
        </p:blipFill>
        <p:spPr>
          <a:xfrm>
            <a:off x="6588000" y="3860640"/>
            <a:ext cx="118296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0DA81-DB38-4AB2-B262-EE544FE586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5" descr="Picture1.png"/>
          <p:cNvPicPr/>
          <p:nvPr/>
        </p:nvPicPr>
        <p:blipFill>
          <a:blip r:embed="rId1"/>
          <a:stretch/>
        </p:blipFill>
        <p:spPr>
          <a:xfrm>
            <a:off x="700200" y="1724040"/>
            <a:ext cx="3552840" cy="427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ņemams jumtiņ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87997-940B-45AA-BBAA-A65A8688D5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25A89-60E2-4562-B075-E1EDE0004E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3:11Z</dcterms:modified>
  <cp:revision>123</cp:revision>
  <dc:subject/>
  <dc:title>Slide 1</dc:title>
</cp:coreProperties>
</file>