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CB2C-BBC2-4F1A-8035-E3ECC077C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73D2-88EA-4C2D-920C-BAC4FF85C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43C1-C62F-4A2D-80A4-56BF6ED95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E330-EA62-4A3A-AEDD-52E7F383C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59B4-AE79-449F-A771-AFC1FD7DA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FF9D-B628-4829-84C5-A1A42CDED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5F30-A2E7-4876-B90C-1BFAB56AC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A575-5A9F-4BE9-BA74-B79059F55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DF98-7437-405C-8B35-C21549302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C5A9-4B56-471B-8C1C-C4DB9DEA1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3F8E-AB2A-4B18-ACE4-B6F9FC107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C9D5-A032-42E8-BAE6-CF1FCB714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A7CB9-5335-4589-89B3-48EA570903CD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Put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898989"/>
                </a:solidFill>
                <a:latin typeface="Arial"/>
              </a:rPr>
              <a:t>Dažādās valodā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Mājas zvirbul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atīņu - Passer domesti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Igauņu - koduvarbl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ietuviešu - naminis žvirbl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Angļu - house sparr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Vācu - Haussper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Krievu -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мовой воробе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Lielā zīlī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atīņu - Parus maj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Igauņu - rasvatih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ietuviešu - didžioji zyl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Angļu - great t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Vācu - Kohlme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Krievu -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ольшая синиц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Mājas straz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atīņu - Sturnus vulgar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Igauņu - kuldnok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ietuviešu - varnė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Angļu - common star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Vācu - St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Krievu -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кворе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Zilzīlī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atīņu - Parus caerule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Igauņu - sinitih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ietuviešu - mėlynoji zyl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Angļu - blue t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Vācu – Blaume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Krievu -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азорев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Svī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atīņu - Apus a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Igauņu -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kiljata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ietuviešu - </a:t>
            </a: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kliedzēj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Angļu - screa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Vācu -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Screa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Krievu -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рику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6T09:17:07Z</dcterms:created>
  <dc:creator>User</dc:creator>
  <dc:description/>
  <dc:language>en-US</dc:language>
  <cp:lastModifiedBy>User</cp:lastModifiedBy>
  <dcterms:modified xsi:type="dcterms:W3CDTF">2012-12-13T17:57:39Z</dcterms:modified>
  <cp:revision>9</cp:revision>
  <dc:subject/>
  <dc:title>Slide 1</dc:title>
</cp:coreProperties>
</file>