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230D-8A5C-420B-8DB9-6CA712413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9298-7997-44CF-A210-269400F54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1187-9331-4A91-A2CE-DD7055E33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9802-FB44-4971-850E-4D47BC8A4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8C2C-098E-4027-9130-8894D128F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5A70-DD37-4D62-8DA2-4D199B9CF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5C5C-8293-4AFF-80E8-13CFBCE92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DFA6-2FE7-460C-B865-B07A3A8B8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EEA4-C71A-446F-BD16-2204E4523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8156-46B7-4BC6-AA76-3D15B4CE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BBFB-500F-40CB-A210-BF29AEED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7B9C-743F-4147-AF95-F66FC82F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7309E-71EE-4B1E-8EEB-84012FE0107B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Put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898989"/>
                </a:solidFill>
                <a:latin typeface="Arial"/>
              </a:rPr>
              <a:t>Dažādās valodā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Mājas zvirbul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Passer domesti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koduvarbl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naminis žvirbl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house spa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- Haussper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мовой вороб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Lielā zīlī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Parus maj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rasvatih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didžioji zyl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great t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- Kohlme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ьшая синиц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Mājas straz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Sturnus vulga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kuldnok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varnė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common star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- S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вор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Zilzīlī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Parus caeru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sinitih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mėlynoji zyl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blue t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– Blaume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азоре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Svī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Apus a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kiljat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kliedzēj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screa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-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crea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ику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6T09:17:07Z</dcterms:created>
  <dc:creator>User</dc:creator>
  <dc:description/>
  <dc:language>en-US</dc:language>
  <cp:lastModifiedBy>User</cp:lastModifiedBy>
  <dcterms:modified xsi:type="dcterms:W3CDTF">2012-12-13T17:57:39Z</dcterms:modified>
  <cp:revision>9</cp:revision>
  <dc:subject/>
  <dc:title>Slide 1</dc:title>
</cp:coreProperties>
</file>