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275D-4D5D-400D-A97D-BF39F31CC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DB32-05A6-4A9C-9186-4379C7DB6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3843-7A18-4B33-A05F-18B974A19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497F-77B9-4854-B436-C63D5AC5C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1843-516D-40C6-8CA5-450D4E44B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636B-4779-4C20-A69F-297FFF33C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C4EE-7E95-45FD-AECE-78618B711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6A62-8C01-418D-935B-42409EC13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1927-C342-4B8C-BF36-6DB11CDDB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793F-BE63-4458-97F0-77494A042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DF4F-55EF-4CA0-99BD-C3CC25D1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F180-6E14-4818-861F-DBF6B3EC2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C9258-C0DE-4004-844A-E962807CFC1E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Put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898989"/>
                </a:solidFill>
                <a:latin typeface="Arial"/>
              </a:rPr>
              <a:t>Dažādās valodā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Mājas zvirbul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atīņu - Passer domesti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gauņu - koduvarbl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ietuviešu - naminis žvirbl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ngļu - house spar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ācu - Haussper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rievu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мовой вороб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Lielā zīlī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atīņu - Parus maj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gauņu - rasvatih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ietuviešu - didžioji zyl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ngļu - great t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ācu - Kohlme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rievu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ьшая синиц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Mājas straz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atīņu - Sturnus vulga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gauņu - kuldnok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ietuviešu - varnė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ngļu - common star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ācu - S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rievu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вор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Zilzīlī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atīņu - Parus caerul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gauņu - sinitih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ietuviešu - mėlynoji zyl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ngļu - blue t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ācu – Blaume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rievu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азоре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Svī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atīņu - Apus a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gauņu -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kiljat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ietuviešu - 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kliedzēj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ngļu - screa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ācu -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crea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rievu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ику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6T09:17:07Z</dcterms:created>
  <dc:creator>User</dc:creator>
  <dc:description/>
  <dc:language>en-US</dc:language>
  <cp:lastModifiedBy>User</cp:lastModifiedBy>
  <dcterms:modified xsi:type="dcterms:W3CDTF">2012-12-13T17:57:39Z</dcterms:modified>
  <cp:revision>9</cp:revision>
  <dc:subject/>
  <dc:title>Slide 1</dc:title>
</cp:coreProperties>
</file>