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34E0-6501-41DA-AE05-7187FC371A5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8275-1A5B-4A7E-B5B7-573542EC88B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2CDF-90C9-4252-9146-0438C20581E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2701-D51A-4130-A1E1-3B953E226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85CE-C4E5-4597-9270-5F1F067C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3B71-3BDD-470E-9446-123AD4E41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F0AA-5B63-4E64-BE8E-9B10D4A08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287A-E532-48F7-AEE2-F9F04CC7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BBE2-BAA2-4546-8A10-C53E5575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2BD7-00CF-4B40-8E22-EA97F4CA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A21A-457B-4324-AE27-4E1D078D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88F3-8989-41B8-80A7-DC546F5B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A41B-FCEF-4A17-9119-2ADC0C6A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CCFB-EFEC-48C7-8F01-3CFA4CA3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7C50-675A-4A3E-9109-6E7E5D55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2701-095F-4957-8533-ECCFDDF723E2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65AE-0282-46CD-AC68-9EE37A313CD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b.lv/download/buritis_zilitem_melnajam_muskerajam.pdf" TargetMode="External"/><Relationship Id="rId2" Type="http://schemas.openxmlformats.org/officeDocument/2006/relationships/hyperlink" Target="http://www.lob.lv/download/buritis_zilitem_melnajam_muskerajam.pdf" TargetMode="External"/><Relationship Id="rId3" Type="http://schemas.openxmlformats.org/officeDocument/2006/relationships/hyperlink" Target="http://www.lob.lv/download/buritis_zilitem_melnajam_muskerajam.pdf" TargetMode="External"/><Relationship Id="rId4" Type="http://schemas.openxmlformats.org/officeDocument/2006/relationships/hyperlink" Target="http://www.lob.lv/download/buritis_zilitem_melnajam_muskerajam.pdf" TargetMode="External"/><Relationship Id="rId5" Type="http://schemas.openxmlformats.org/officeDocument/2006/relationships/hyperlink" Target="http://www.lob.lv/download/buritis_zilitem_melnajam_muskerajam.pdf" TargetMode="External"/><Relationship Id="rId6" Type="http://schemas.openxmlformats.org/officeDocument/2006/relationships/hyperlink" Target="http://www.lob.lv/download/buritis_zilitem_melnajam_muskerajam.pdf" TargetMode="External"/><Relationship Id="rId7" Type="http://schemas.openxmlformats.org/officeDocument/2006/relationships/hyperlink" Target="http://www.lob.lv/download/buritis_zilitem_melnajam_muskerajam.pdf" TargetMode="External"/><Relationship Id="rId8" Type="http://schemas.openxmlformats.org/officeDocument/2006/relationships/hyperlink" Target="http://www.latvijasdaba.lv/putni/parus-caeruleus-l/" TargetMode="External"/><Relationship Id="rId9" Type="http://schemas.openxmlformats.org/officeDocument/2006/relationships/hyperlink" Target="http://www.latvijasdaba.lv/putni/parus-caeruleus-l/" TargetMode="External"/><Relationship Id="rId10" Type="http://schemas.openxmlformats.org/officeDocument/2006/relationships/hyperlink" Target="http://www.latvijasdaba.lv/putni/parus-caeruleus-l/" TargetMode="External"/><Relationship Id="rId11" Type="http://schemas.openxmlformats.org/officeDocument/2006/relationships/hyperlink" Target="http://www.latvijasdaba.lv/putni/parus-caeruleus-l/" TargetMode="External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IL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C:\Users\User\AppData\Local\Microsoft\Windows\Temporary Internet Files\Content.IE5\8RKKZONO\MC900391474[1].wmf"/>
          <p:cNvPicPr/>
          <p:nvPr/>
        </p:nvPicPr>
        <p:blipFill>
          <a:blip r:embed="rId1"/>
          <a:stretch/>
        </p:blipFill>
        <p:spPr>
          <a:xfrm>
            <a:off x="6443640" y="1052640"/>
            <a:ext cx="1814400" cy="164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B00948-AB01-4E64-B49E-2543A7E975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600200"/>
          <a:ext cx="8229600" cy="3365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73" name="Picture 24" descr="Pic1.png"/>
          <p:cNvPicPr/>
          <p:nvPr/>
        </p:nvPicPr>
        <p:blipFill>
          <a:blip r:embed="rId1"/>
          <a:stretch/>
        </p:blipFill>
        <p:spPr>
          <a:xfrm>
            <a:off x="1116000" y="3068640"/>
            <a:ext cx="1176480" cy="1317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5" descr="Pic2.png"/>
          <p:cNvPicPr/>
          <p:nvPr/>
        </p:nvPicPr>
        <p:blipFill>
          <a:blip r:embed="rId2"/>
          <a:stretch/>
        </p:blipFill>
        <p:spPr>
          <a:xfrm>
            <a:off x="3995640" y="3068640"/>
            <a:ext cx="1176480" cy="1317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6" descr="Pic3.png"/>
          <p:cNvPicPr/>
          <p:nvPr/>
        </p:nvPicPr>
        <p:blipFill>
          <a:blip r:embed="rId3"/>
          <a:stretch/>
        </p:blipFill>
        <p:spPr>
          <a:xfrm>
            <a:off x="6659640" y="3068640"/>
            <a:ext cx="1182600" cy="132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59F5B3-E2ED-4066-9468-0ECA63B5B4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lv.wikipedia.org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Zilzīlī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download/buritis_zilitem_melnajam_muskerajam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parus-caeruleu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/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06D4B0-78E9-4C29-89F7-A56E8BB83E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rad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1133A5-F27D-4EF3-904D-331E577A85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vij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EF88F2-2121-4ECE-8209-8677D84EC7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ss r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814716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lzīlīte ir Latvijā ļoti bieži sastopama zvirbuļveidīgo kārtas putnu s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dala 11 zilzīlīšu pasu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bt2.png"/>
          <p:cNvPicPr/>
          <p:nvPr/>
        </p:nvPicPr>
        <p:blipFill>
          <a:blip r:embed="rId1"/>
          <a:stretch/>
        </p:blipFill>
        <p:spPr>
          <a:xfrm>
            <a:off x="2050920" y="4437000"/>
            <a:ext cx="590724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27F7EB-574B-4A24-B109-3D67092C54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platīb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5122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Visā Eiropā, izņemot pašus ziemeļus un augstkalnu apgabal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Kanāriju salas, Ziemeļāfrika un Mazāzija un vietām citur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Ziemo ligzdošanas areālā, tomēr daļa putnu rudenī klejo uz dienvidi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zilzilite2.png"/>
          <p:cNvPicPr/>
          <p:nvPr/>
        </p:nvPicPr>
        <p:blipFill>
          <a:blip r:embed="rId1"/>
          <a:stretch/>
        </p:blipFill>
        <p:spPr>
          <a:xfrm>
            <a:off x="6027840" y="0"/>
            <a:ext cx="3116160" cy="363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BBE39C-A0C9-46F1-96B5-D19EBFABE5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6920" y="1628640"/>
            <a:ext cx="75614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aza izmēra zīlīte ar tievu un īsu knābī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Ķermeņa garums 11—1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vars 7,5—14,7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64BA2-4949-4322-BE5D-43B75D0FD2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ās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4000" y="1600200"/>
            <a:ext cx="8002440" cy="478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pilgti zila galvas augšdaļa, kas kontrastē ar zīlītēm raksturīgajiem baltajiem vaig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ejas zīmējumu veido tumši zilas spalv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pārni, aste un pakausis zilgani, mugura olīvzaļ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ēders dzeltens ar nelielu tumšu jos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nābis melns, kājas pelē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6B9D31-1E46-4521-AEC8-CA66AB1200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zīlītē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ūrīšus izvieto dažādos mežos, parkos, dārzos un apstādīju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žos tajos visbiežāk ligzdo lielā zīlīte, bet retāk cekulzīlīte un zilzīlī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ūrīšiem noteikti jābūt atveramiem, lai tos varētu regulāri iztīrī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strazds5.png"/>
          <p:cNvPicPr/>
          <p:nvPr/>
        </p:nvPicPr>
        <p:blipFill>
          <a:blip r:embed="rId1"/>
          <a:stretch/>
        </p:blipFill>
        <p:spPr>
          <a:xfrm>
            <a:off x="6443640" y="4581360"/>
            <a:ext cx="1511280" cy="19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3BB67F-52F5-4894-A1DF-73670C9FA3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neēvelēt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p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Pt2.png"/>
          <p:cNvPicPr/>
          <p:nvPr/>
        </p:nvPicPr>
        <p:blipFill>
          <a:blip r:embed="rId1"/>
          <a:stretch/>
        </p:blipFill>
        <p:spPr>
          <a:xfrm>
            <a:off x="3203640" y="1773360"/>
            <a:ext cx="5716440" cy="42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F39DEC-84AB-4B8A-A34B-CFD6F688DB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Content Placeholder 36" descr="Picture1.png"/>
          <p:cNvPicPr/>
          <p:nvPr/>
        </p:nvPicPr>
        <p:blipFill>
          <a:blip r:embed="rId1"/>
          <a:stretch/>
        </p:blipFill>
        <p:spPr>
          <a:xfrm>
            <a:off x="790560" y="1724040"/>
            <a:ext cx="3371760" cy="4278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ābūt atveram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7439E8-22DF-4D85-BD89-A79936C095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AABE30-1607-4828-8488-A5511A5407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42:06Z</dcterms:modified>
  <cp:revision>112</cp:revision>
  <dc:subject/>
  <dc:title>Slide 1</dc:title>
</cp:coreProperties>
</file>