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293F-F47B-4126-AC19-708663DA8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2820-D099-4BC0-9D61-248AA0C1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D60F-6821-4766-8B87-757BF7D25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3F1C-91BB-49A2-9D34-0FAE32173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B3F6-3DDE-4651-BA51-63F2B1ED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B068-D655-496C-AAFF-6F2DEE23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CB86-3725-4705-BC9C-82863980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018F-7E59-4D4F-AAE8-6A3074ED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46D6-58B1-482D-96CD-6F34F6A8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2E09-B679-4F6A-B9B3-ABE14C39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951E-B5D2-4797-A71E-6C4ED507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2274-3492-4DE7-BFE8-5D199122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2105-2A98-459A-A161-FDC411752098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Put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898989"/>
                </a:solidFill>
                <a:latin typeface="Arial"/>
              </a:rPr>
              <a:t>Dažādās valodā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Mājas zvirbul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sser domesti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koduvarb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naminis žvirb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house spa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Haussper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овой вороб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Lielā 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rus ma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rasvati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didžioji zy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great 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Kohlme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ая сини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Mājas straz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Sturnus vulg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kuldnok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varnė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common star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вор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il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rus caeru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siniti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mėlynoji zy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blue 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– Blaume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зор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Svī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Apus a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ilja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kliedzēj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screa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rea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к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09:17:07Z</dcterms:created>
  <dc:creator>User</dc:creator>
  <dc:description/>
  <dc:language>en-US</dc:language>
  <cp:lastModifiedBy>User</cp:lastModifiedBy>
  <dcterms:modified xsi:type="dcterms:W3CDTF">2012-12-13T17:57:39Z</dcterms:modified>
  <cp:revision>9</cp:revision>
  <dc:subject/>
  <dc:title>Slide 1</dc:title>
</cp:coreProperties>
</file>